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4FB3-3415-4990-B690-8362B9096C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CE12-2457-4537-B9CA-BEE6E7A2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D53324-C7AA-4A41-AFA8-4D6F1DCF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FA92D8-B989-4F60-B9C6-7E2A2ED2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A7B6F6-AB28-423E-8818-32816A7A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86CF28-B2CF-4B67-8C4F-E443EADE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2764B2-63DB-4920-B3CA-CE45646B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7F05BB-85EC-46C8-8DF9-D9C46B6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5A0D81-857D-4060-B67E-06AA4744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FB09F6-70A5-4CD3-9629-B5F514E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A19697-2031-44E9-BFBF-527598A548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C8ABA-BAD2-4917-83A3-B12AF13C8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55C7-E32F-4036-8434-53A7A6BE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337B-18AE-4C71-9405-0215E306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0CFD0-31B6-4764-922C-B48DA858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5DC58-EB38-4C3B-A59F-A7ACFBA5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2AB3B-8DAB-4257-B158-F2E7E0AF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46992-C3F5-49AA-8643-D2D08303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02B3-35F5-4260-8B3F-62648CC0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E97F8-999B-427B-AC63-B6217EC4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5EF8-3320-4F2E-BD5B-00C2DBE4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A3042-2690-4D85-BE72-1CCBA92F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78E6E-5F5B-4DB1-AE91-3D7A6CE6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62572-98DF-4D5F-8257-0AE054E354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EC992-1E11-4093-9B20-017979BEF8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70DDBC-2C0E-43F9-81B2-85B25F0459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C843C3-5CBD-4195-8EEF-C0E61300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A7D5B-EFCC-486D-A49F-6BF9E4EF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003707-3CE0-475F-97AE-2EED31D9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98CBA8-13C7-4246-B29E-0061718A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E2576-B520-402B-ACD3-D4810E51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40724-13DB-464D-97D6-95C76CED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CC3070-673A-4CD7-B593-0CD5604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26EDD3-EE50-49DB-86E5-784A1DDB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E5131-54F9-4816-8F46-A06F7BCB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E073D5-4C1F-4536-A523-D6795D3A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C6A426-F28E-4A45-BA4E-07CA2FA2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34940-3793-45EC-84A1-DAC7203F8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F97E6-3DFC-4B7E-B875-876FE54A3D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C51703-1A36-4240-AB52-76BF84CC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966CF-11CC-45C6-9EB2-068A1B24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5428F-EC8F-4BF6-9C3E-398DCA27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803D0-0B0E-4DC3-BA2A-5B76A622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5B688-EB07-4731-AD18-A504C918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EF7937-6175-482D-8263-3DA24FC8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478B4-18E6-482B-B417-9C2363D5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78DE8-C0C2-4C84-8F31-69935BC5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86FD2-6B75-44A1-9197-706D9D62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7104C-9AAE-4C03-8300-689709D7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21D23-D2CC-4BF6-9E25-F7B35EA2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52529-4C30-4580-A50F-680934A27C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73FE3-6B05-41E4-9792-CA0F4D955A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E9D52-5A00-4184-8584-8B44C855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93F67-0B91-47DC-93D1-1D92A03D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FE312-4BE7-430F-BC2A-CD42F49D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7C3EC-A1D9-46E6-BEDE-BED54514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DD1DE-D413-442B-905C-76193F67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867C5-CFB6-4D6A-BFFC-4F5CA895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CFBB7-78FF-417E-96A1-04EB358D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AA230-5784-490B-9C87-B3003CE9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B4A4E-CC08-4E58-96A0-062E21EB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70E54-EC32-4335-A13C-DC8D9F2A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840EC-34CB-4E1B-A14F-BA708052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72665-FDEA-4439-86B4-A6911E2793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27389-3128-4594-AC02-B5A1E32B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18FED-E94F-4A9D-9BE5-FCCE5174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D8688-C42E-416D-9098-2F92064A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8944E-5567-4F4B-9854-9BFAB1DC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01500-8386-421A-906F-943126AA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B5EC8-4A08-4AB3-A5F0-DB3B2A33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5A891-A588-44CE-B92A-640A3CB1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CF187-A295-4D2F-B77B-9428A45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97E34-4DB0-4DA6-A569-B7EDBCF1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9E2A5-2CE9-4E7F-A490-755393D3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A4062-ADCD-4514-9F80-C640DEC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D2C5C-2E02-4DD6-BA00-415A65F9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0189D-6E6C-4B73-92C3-D7FFAB69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84F51-76AF-4A64-97B1-BEDE4A96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E1372-5CB6-4FA7-83A5-E2140EA1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81A59-E96C-495C-AC68-1400608E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D846B-CBE9-406E-9D99-1DE6AACA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C3A72-AD22-4EF4-8FB4-B33E21A0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42E47-194E-41D8-A083-5809F8FF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9DCA8-AB78-444F-93B7-0B8513A2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FD4F3-ACA8-4EFD-B4CC-7F42931A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AB639-3355-484E-B9DE-04C2704A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EA799-EDF5-429E-938A-9617092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9B8DB-EF62-4739-B3EB-D79FF528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F720E-E99E-437E-B411-51ABDBEC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126A1-9A46-4F88-B882-F742ECC7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EB23E-9833-49B8-B7C6-29170261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F36FA-485B-49D7-899F-4CCB3CE9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658DB-EE86-44F6-A52E-37009304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198FA-3662-41A2-8D1D-87FA0700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ABE7F-5286-4283-8A04-E33B4D27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6AF8E-2A0A-4240-A6F8-99AAF149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17889-0CBC-40D2-B721-A1A5D743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0ADD9-DEAE-4122-B99A-8FE1204E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55B52-67CF-4B2B-A345-1DB44DC1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FF83A-2E29-47F0-BC99-754D2E2E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483F6-E7BC-4495-8470-FAF6E3FA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DE066-FB24-4E6F-B663-92F39A13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6DFB1-F70C-45B4-965A-17266EEA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9743B-2657-48EB-8180-FE46C15E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0A2BB-5C27-4099-9C9B-605B8E03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1CD0E-6940-419C-BBF2-A5F3E19E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DAD0C-D9F3-4C72-B2DE-AFE3F233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45967-BC17-4BB7-B39C-6D369E6D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DF4E4-10B7-4921-949C-7C4B4D99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ED170-27EA-45F4-A413-A8F02858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CCCD1-E71D-4304-AB0D-943F4AC6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89CE-D6EA-4CE8-9336-4515D98F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623A8-45C4-425C-BEBE-24AC8E56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611F1-49FF-4FF4-87FA-3902501C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2504B-FEFC-49E0-932D-13F839B6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56629-BF38-49E4-BE29-FF064D8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713B6-DC29-475B-9949-02E5DDC5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BE93D-7EDC-4270-B3A0-5A7CC967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F9BF8-E53F-447F-BAF7-226D54C9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C0E29F-B3E8-467F-80B7-CF016FB4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4D5363-DD68-4B17-9D10-F73306BF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57396-EE4B-449D-864A-7FE1910B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85CDF-AF35-40CF-A2BC-5095DC0F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4AD0F-53F1-49F1-8E4F-52D32B7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F0CCF-8A06-4DE5-9A7C-2B8EA13F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B23A1-52F4-4F80-89E6-F0FA768F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3FF61-521F-476F-9772-9ECABEE4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C16F8-B76F-4BB8-AE90-57423985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F7A5E-2BEB-43DE-AFA8-D38E52FC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0A095C-CF98-4332-BD99-FD36FF9D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97104-D73D-4C22-90C2-7D3D7023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D17FC-8E17-4F4F-A2FF-1D6595BF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330C4-54B4-4E3D-83F7-DD9F39C7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08EB7-CE3A-48A7-B184-8C9C3370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7FD9A-F914-4A23-9B25-10BA78BC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7C6C3-8728-4348-B149-9AD2886F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9431D-EEAC-48EE-9B28-B5735AE3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CD8D5-66A8-4AA0-9B21-6FA54068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76BB3-BB2C-47BC-B7B9-C5CC026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2FB45-287C-4AE5-B35C-DB50E65E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2400B-8508-433B-9288-F2F611E3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61C3D-B34B-4195-8CF7-BFB1EC17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A07B6-290F-4449-9FFB-4F26BA19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AC565-7FB7-4059-8C42-8603404E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1ECF8-FBC8-4CFC-AF07-D72D63CF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140DE-CECA-4341-875C-84D352EF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F77507-93EF-4236-A5B9-EC8A4D96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BC9B7-4797-40CD-8B1F-29297592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AB2C1-1036-44FD-9EC8-9AD4AB5F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45418-B736-4DC3-9261-137A22D2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8A0F4-CC10-4778-8FBC-96F98530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71713-1D09-4EC1-8CF1-B935312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F5739E-CD4B-42B6-B9AB-C5EDF0FF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D677E-5D39-4711-BA87-A2416289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4FAEA-D8EA-4A38-B560-8582A7F2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0109E1-43E7-4B94-B047-FCB821B8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8F0FB-FE0F-4B93-87F6-D0219D92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F2439A-E74E-4FE5-8CBD-E2A43B7C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472C8-7846-470C-A108-095366AB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8B137-0949-4CF5-9F76-E9897DA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A2BD1D-A9D9-4AD4-ADAC-B61748D3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05E43E-A815-4786-B292-AB2BB154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EDF45-1DEC-43DD-934D-0CD62865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BB47A-B283-4D44-AF84-7B86C3BB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1A1AD-3BAC-4177-A475-68E9D6CB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38E35-8DAE-4A9E-9EAA-DBE157FB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BDF16-EEA4-40E8-8B10-58E0F1B7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4B364-8B70-4E11-A244-4D23A98F4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3CAA7-F3C6-4D25-898E-4E534750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0E5D4-FDF5-442C-A3FB-5E3D5D12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8CC73-57B1-42F5-B881-86389409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51E5D-339F-4323-A84A-DE9CDC74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633CD-73A7-4484-8D3D-09A0B9A4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7A8B3-EAFC-4AF8-9930-36D86505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68E1C-E974-4194-83D9-5AF8DE56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1F8E2-9FC9-455E-858E-001EEE5A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48FA4-653E-44AD-862F-6847A46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77E05-470E-4201-A5AA-04A7801B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1E3F91-4244-4C95-98E1-A75C2CDF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7B30D4-4F97-4AA2-A08E-198F13A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075B7-05FE-41B7-97B5-1D86832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118CF-F505-44D8-B273-56C7BD4E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6F55AA-2F71-4460-81FD-2A8336C2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134D1-D491-4B0B-9EEF-09E32067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206B20-2444-4713-921F-3488D593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A91F75-2CEF-4D2F-866D-8A2702C1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7AC29-126E-4255-9B68-73364103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C3AC5-9EEF-4D48-9369-D2386DF8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56A5E-7C93-48A3-8222-0E1AEFDC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1EC46-039A-4422-9D76-F852410C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83AC5F-FE54-447E-BEA2-A5DC6B43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7AC652-F0E1-4E0F-B9FE-28D7D65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4BB20-5B7A-4A4E-ABA5-78DFC27E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290FAF-E623-4D96-85D3-A2F78AB4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6C730-9D16-4FC3-A607-4F48C6D2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930DE-7270-4D1A-BCE7-DA2E24BF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556DB-53E5-4164-91D1-863DFAD3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47F29-2B91-46B6-A0AC-34B01427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33341-003C-4611-8A63-BAE9F252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EA03C-8540-4117-9682-EA26B744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12F98-FF56-4281-BF38-500967A5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98D74-8059-46F2-A3F4-57E15335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ED6AEB-AE50-4291-8804-E121CB26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157C4-9FFE-400C-8125-CC836C20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05553-0F0C-4FBF-9DF8-CBD959A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8EC60-F4E1-4BAC-98EB-FD9DB5B5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F945E-F601-45E3-910C-7F1A6D83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7B0457-E83F-47CD-B6A1-40AE043C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83DC5A-4736-419E-B82D-745D078F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05B556-6A89-4405-BB7F-B27B03A4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319911-FA52-4078-9E1E-5E3F5278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E33F-4903-4F1D-8587-42EB7D25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DAF37A-8B03-4B5C-BDFF-C3E59E52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8FF5F-D731-4ADD-AAF4-FB23F36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9EDC5-87C9-4C33-9000-FC07B22A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F3E6D-09BA-4485-8192-0CE0850B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22A2A4-9A5D-400C-A84D-0C93018D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F5812-D2A7-4E55-B494-BC22226C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A274C-815B-44CE-A82D-18BCFBA94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20BD-2B24-4030-9DE0-1DAB145C99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6E7F-3B2E-4F5C-9083-111A9921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E4A4-590F-408F-B6B7-09F2FF04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1ED6-C335-4090-B905-2C73F95F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9665E-C677-4FC7-9946-B8977964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C9BF-CE14-47C5-98CA-A1528147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A7B1-5887-452F-8120-FAAF99D4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0E3B6-5CE0-4C00-B07D-2A3B8B31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7D95-B7B8-4B2D-AD1C-FC3EC66B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C19F-A4E9-4533-8C6B-C124F609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5CB0-A901-4B46-B0CD-4DB36EFA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1FA4-1BCC-4398-899E-4BB536DA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CE36-2F32-4204-B828-FEA98B3180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4CB7F-041E-4757-A65E-6BEC99B4BE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788E5-C85F-4023-B4B2-96DCDF60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E93F6-86E8-4A18-B909-7FE7D93A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C43C8-8A1D-4B33-AB89-B08E4E20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0DAB5-21DC-4F8D-916E-693BBCBD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0EFD7-C926-4ABF-AA94-821BC689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34997-67E4-452C-97EF-B2803311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04369-7BD1-4F2B-9A0D-31B79843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18532-1DF4-42F8-B3C6-D5789E5E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1DF3E9-C138-4C1D-8763-26654F3A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FF49A-2E58-4C1B-826B-D8112080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94332B-D7DB-43DB-8F71-7B2E20DD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8D38-62D6-43F3-B001-C6217DE6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2D952-083F-41F7-8BFD-0B4390FD4B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2D9BB-668B-4C2F-8E75-37E9E488BF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E40EC2-2399-45EE-AC84-684D5BF4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B92E02-F5BA-48D2-AC7F-93B04F83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136DCD-3E60-4F06-B642-CCE6C31B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4E2F5-07AD-440E-8C7F-5CD4C331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D3743F-90A4-4AA7-9D6A-94F576C2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51D0BB-BE06-449B-957C-AA59D715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6D394C-033D-4EA8-9777-CFD7E6D5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89236-67A8-485F-A625-022AB63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4F56-1873-4097-9895-2C7C0255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0E3215-5680-41A5-B2F8-857ACFB2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8E311B-8CE8-4990-88F5-2D92F302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84BAA0-DF4E-420F-A080-C1F0775ED1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180D-DD7D-46E9-B80C-B601FCB99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A144-1593-4FD5-B544-540C1011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C07CF-7EF9-45DB-9489-039BC398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0BB8C-BD8B-4B6D-A95F-457266E2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BE1D-698E-4290-BD6F-8F9F12E1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D46D-D732-4294-B4FE-23204E5B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A14DF-0B4F-47CD-890E-6BC74534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6C49-1182-4A5A-B5C0-F8196E70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B4B01-F424-4B7C-ABAB-E44B577C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BDCEA-4AA8-4A4B-BB67-64FC6BE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879D6-8848-4F6D-9429-347963E6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B27F-8E58-4092-91FC-EAD746F7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A793-0B74-4CB4-A177-842341E1FC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BA9EE-5C94-463E-A387-4A2BD2D0F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F38A6-996F-4586-A5C5-20BFA38C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F31BB-9581-4DCE-A321-FEBC5308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FF7A82-2813-4D19-9213-B6F74328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4A627-D5A4-4C8C-96AE-0570C40B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448C-3DF4-4A4C-B022-838ADF31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2F158-6BF0-416B-AF81-2ED67567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89272-5D5F-4F6B-9728-1D8A3F77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CA609-8797-417D-BA1D-3674A495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08289-9DC3-421B-81E2-98F0D0EF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5E69E-361A-4A0E-BB65-5A954B2A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4D28F1-8BC7-4E91-BE8D-70C07292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1F09F-B16B-4A29-BA50-2B86F1832C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F1DD9C-601B-4481-B45A-6AAECECA2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D4D885-47F6-480E-AB6B-D0A6796D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FF5E51-AEAC-40E7-92E2-742CC7A3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A30B-5F9D-4075-979B-444103BA4E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4C00-2F69-4255-8125-0A33FA274B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10B6-BE81-4553-A4AA-637D777DE8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2104-895E-4EC3-8937-A940E199F4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E72-DC37-4221-A1E6-C8282BAE90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24B0-9660-44EE-930C-D08DDC9030C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B766-1FE5-42E9-9AC8-A22683B73D7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25F-37F2-4A1D-8A31-5BB0A85CB91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1661-74BC-4E08-BFCC-88F773D0C7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1522-B2CD-48BA-901D-50D19BB9B5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E6A8-E9AF-44F4-A65D-609151D5EBA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CAED-FC62-43C7-9D66-084984C842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6D06-6EE1-4BFB-A5EA-19B473ADF4F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54D1-2308-4545-872E-377894B34B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4DBB-3593-4B98-80CF-554EAA970A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DEBF-304F-46DF-B1FA-30139C77DE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1F22-8426-4944-BB09-379E360753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1EFA-D3C5-4DF9-84DA-B9F7AF04D2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6035-C141-4E61-8EE4-64C2DDF8385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4EBC-B959-4038-A9AA-F969E26529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EB76-7070-4898-8E0B-1807940401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1D9-1028-4B4C-B9B8-884A6668B8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DF9B-DAEB-4BF8-A832-07A12AE616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BB45-A7C3-4B71-9473-2225B7286D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2157480" y="262728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584360" y="2610000"/>
            <a:ext cx="597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数的初步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6"/>
          <p:cNvSpPr/>
          <p:nvPr/>
        </p:nvSpPr>
        <p:spPr>
          <a:xfrm>
            <a:off x="387360" y="700200"/>
            <a:ext cx="48610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8"/>
          <p:cNvSpPr/>
          <p:nvPr/>
        </p:nvSpPr>
        <p:spPr>
          <a:xfrm>
            <a:off x="558720" y="1316160"/>
            <a:ext cx="7745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把一个蛋糕平均分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份，每份是它的（   ）分之一，写作（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母是（    ），分子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9"/>
          <p:cNvSpPr/>
          <p:nvPr/>
        </p:nvSpPr>
        <p:spPr>
          <a:xfrm>
            <a:off x="752400" y="2819520"/>
            <a:ext cx="75535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把一个圆平均分成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份，每份是它的（  ）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份是它的（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10"/>
          <p:cNvSpPr/>
          <p:nvPr/>
        </p:nvSpPr>
        <p:spPr>
          <a:xfrm>
            <a:off x="752400" y="3873600"/>
            <a:ext cx="15321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组合 32"/>
          <p:cNvGrpSpPr/>
          <p:nvPr/>
        </p:nvGrpSpPr>
        <p:grpSpPr>
          <a:xfrm>
            <a:off x="2111400" y="3940200"/>
            <a:ext cx="623880" cy="820440"/>
            <a:chOff x="2111400" y="3940200"/>
            <a:chExt cx="623880" cy="820440"/>
          </a:xfrm>
        </p:grpSpPr>
        <p:sp>
          <p:nvSpPr>
            <p:cNvPr id="1003" name="Text Box 54"/>
            <p:cNvSpPr/>
            <p:nvPr/>
          </p:nvSpPr>
          <p:spPr>
            <a:xfrm>
              <a:off x="2111400" y="3940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55"/>
            <p:cNvSpPr/>
            <p:nvPr/>
          </p:nvSpPr>
          <p:spPr>
            <a:xfrm>
              <a:off x="2111400" y="43923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2284200" y="4407120"/>
              <a:ext cx="276840" cy="360"/>
              <a:chOff x="2284200" y="4407120"/>
              <a:chExt cx="276840" cy="360"/>
            </a:xfrm>
          </p:grpSpPr>
          <p:sp>
            <p:nvSpPr>
              <p:cNvPr id="1006" name="Line 56"/>
              <p:cNvSpPr/>
              <p:nvPr/>
            </p:nvSpPr>
            <p:spPr>
              <a:xfrm>
                <a:off x="2284200" y="44071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>
                <a:off x="2284200" y="44071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8" name="文本框 11"/>
          <p:cNvSpPr/>
          <p:nvPr/>
        </p:nvSpPr>
        <p:spPr>
          <a:xfrm>
            <a:off x="2805120" y="4048200"/>
            <a:ext cx="1461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组合 32"/>
          <p:cNvGrpSpPr/>
          <p:nvPr/>
        </p:nvGrpSpPr>
        <p:grpSpPr>
          <a:xfrm>
            <a:off x="3992400" y="3772080"/>
            <a:ext cx="623880" cy="821160"/>
            <a:chOff x="3992400" y="3772080"/>
            <a:chExt cx="623880" cy="821160"/>
          </a:xfrm>
        </p:grpSpPr>
        <p:sp>
          <p:nvSpPr>
            <p:cNvPr id="1010" name="Text Box 54"/>
            <p:cNvSpPr/>
            <p:nvPr/>
          </p:nvSpPr>
          <p:spPr>
            <a:xfrm>
              <a:off x="3992400" y="37720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55"/>
            <p:cNvSpPr/>
            <p:nvPr/>
          </p:nvSpPr>
          <p:spPr>
            <a:xfrm>
              <a:off x="3992400" y="42249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4165200" y="4239720"/>
              <a:ext cx="276840" cy="360"/>
              <a:chOff x="4165200" y="4239720"/>
              <a:chExt cx="276840" cy="360"/>
            </a:xfrm>
          </p:grpSpPr>
          <p:sp>
            <p:nvSpPr>
              <p:cNvPr id="1013" name="Line 56"/>
              <p:cNvSpPr/>
              <p:nvPr/>
            </p:nvSpPr>
            <p:spPr>
              <a:xfrm>
                <a:off x="4165200" y="42397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4165200" y="42397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文本框 20"/>
          <p:cNvSpPr/>
          <p:nvPr/>
        </p:nvSpPr>
        <p:spPr>
          <a:xfrm>
            <a:off x="4616280" y="4002120"/>
            <a:ext cx="2254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是（   ）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32"/>
          <p:cNvGrpSpPr/>
          <p:nvPr/>
        </p:nvGrpSpPr>
        <p:grpSpPr>
          <a:xfrm>
            <a:off x="6532560" y="3772080"/>
            <a:ext cx="623880" cy="821160"/>
            <a:chOff x="6532560" y="3772080"/>
            <a:chExt cx="623880" cy="821160"/>
          </a:xfrm>
        </p:grpSpPr>
        <p:sp>
          <p:nvSpPr>
            <p:cNvPr id="1017" name="Text Box 54"/>
            <p:cNvSpPr/>
            <p:nvPr/>
          </p:nvSpPr>
          <p:spPr>
            <a:xfrm>
              <a:off x="6532560" y="37720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55"/>
            <p:cNvSpPr/>
            <p:nvPr/>
          </p:nvSpPr>
          <p:spPr>
            <a:xfrm>
              <a:off x="6532560" y="42249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"/>
            <p:cNvGrpSpPr/>
            <p:nvPr/>
          </p:nvGrpSpPr>
          <p:grpSpPr>
            <a:xfrm>
              <a:off x="6705360" y="4239720"/>
              <a:ext cx="276840" cy="360"/>
              <a:chOff x="6705360" y="4239720"/>
              <a:chExt cx="276840" cy="360"/>
            </a:xfrm>
          </p:grpSpPr>
          <p:sp>
            <p:nvSpPr>
              <p:cNvPr id="1020" name="Line 56"/>
              <p:cNvSpPr/>
              <p:nvPr/>
            </p:nvSpPr>
            <p:spPr>
              <a:xfrm>
                <a:off x="6705360" y="42397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 txBox="1"/>
              <p:nvPr/>
            </p:nvSpPr>
            <p:spPr>
              <a:xfrm>
                <a:off x="6705360" y="42397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2" name="文本框 25"/>
          <p:cNvSpPr/>
          <p:nvPr/>
        </p:nvSpPr>
        <p:spPr>
          <a:xfrm>
            <a:off x="7156440" y="3919680"/>
            <a:ext cx="38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26"/>
          <p:cNvSpPr/>
          <p:nvPr/>
        </p:nvSpPr>
        <p:spPr>
          <a:xfrm>
            <a:off x="1133640" y="4548240"/>
            <a:ext cx="313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也就是（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7"/>
          <p:cNvSpPr/>
          <p:nvPr/>
        </p:nvSpPr>
        <p:spPr>
          <a:xfrm>
            <a:off x="879480" y="5181480"/>
            <a:ext cx="10256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28"/>
          <p:cNvSpPr/>
          <p:nvPr/>
        </p:nvSpPr>
        <p:spPr>
          <a:xfrm>
            <a:off x="1620720" y="5091120"/>
            <a:ext cx="6638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组合 32"/>
          <p:cNvGrpSpPr/>
          <p:nvPr/>
        </p:nvGrpSpPr>
        <p:grpSpPr>
          <a:xfrm>
            <a:off x="2103480" y="5091120"/>
            <a:ext cx="630360" cy="835920"/>
            <a:chOff x="2103480" y="5091120"/>
            <a:chExt cx="630360" cy="835920"/>
          </a:xfrm>
        </p:grpSpPr>
        <p:sp>
          <p:nvSpPr>
            <p:cNvPr id="1027" name="Text Box 54"/>
            <p:cNvSpPr/>
            <p:nvPr/>
          </p:nvSpPr>
          <p:spPr>
            <a:xfrm>
              <a:off x="2109600" y="50911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55"/>
            <p:cNvSpPr/>
            <p:nvPr/>
          </p:nvSpPr>
          <p:spPr>
            <a:xfrm>
              <a:off x="2103480" y="55587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2282400" y="5558400"/>
              <a:ext cx="276840" cy="360"/>
              <a:chOff x="2282400" y="5558400"/>
              <a:chExt cx="276840" cy="360"/>
            </a:xfrm>
          </p:grpSpPr>
          <p:sp>
            <p:nvSpPr>
              <p:cNvPr id="1030" name="Line 56"/>
              <p:cNvSpPr/>
              <p:nvPr/>
            </p:nvSpPr>
            <p:spPr>
              <a:xfrm>
                <a:off x="2282400" y="555840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2282400" y="55584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2" name="文本框 39"/>
          <p:cNvSpPr/>
          <p:nvPr/>
        </p:nvSpPr>
        <p:spPr>
          <a:xfrm>
            <a:off x="2705040" y="5246640"/>
            <a:ext cx="1460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组合 32"/>
          <p:cNvGrpSpPr/>
          <p:nvPr/>
        </p:nvGrpSpPr>
        <p:grpSpPr>
          <a:xfrm>
            <a:off x="3992400" y="5091120"/>
            <a:ext cx="623880" cy="820440"/>
            <a:chOff x="3992400" y="5091120"/>
            <a:chExt cx="623880" cy="820440"/>
          </a:xfrm>
        </p:grpSpPr>
        <p:sp>
          <p:nvSpPr>
            <p:cNvPr id="1034" name="Text Box 54"/>
            <p:cNvSpPr/>
            <p:nvPr/>
          </p:nvSpPr>
          <p:spPr>
            <a:xfrm>
              <a:off x="3992400" y="50911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55"/>
            <p:cNvSpPr/>
            <p:nvPr/>
          </p:nvSpPr>
          <p:spPr>
            <a:xfrm>
              <a:off x="3992400" y="55432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4165200" y="5558040"/>
              <a:ext cx="276840" cy="360"/>
              <a:chOff x="4165200" y="5558040"/>
              <a:chExt cx="276840" cy="360"/>
            </a:xfrm>
          </p:grpSpPr>
          <p:sp>
            <p:nvSpPr>
              <p:cNvPr id="1037" name="Line 56"/>
              <p:cNvSpPr/>
              <p:nvPr/>
            </p:nvSpPr>
            <p:spPr>
              <a:xfrm>
                <a:off x="4165200" y="555804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 txBox="1"/>
              <p:nvPr/>
            </p:nvSpPr>
            <p:spPr>
              <a:xfrm>
                <a:off x="4165200" y="55580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文本框 44"/>
          <p:cNvSpPr/>
          <p:nvPr/>
        </p:nvSpPr>
        <p:spPr>
          <a:xfrm>
            <a:off x="4616280" y="5219640"/>
            <a:ext cx="2254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是（   ）个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32"/>
          <p:cNvGrpSpPr/>
          <p:nvPr/>
        </p:nvGrpSpPr>
        <p:grpSpPr>
          <a:xfrm>
            <a:off x="6532560" y="4979880"/>
            <a:ext cx="623880" cy="820440"/>
            <a:chOff x="6532560" y="4979880"/>
            <a:chExt cx="623880" cy="820440"/>
          </a:xfrm>
        </p:grpSpPr>
        <p:sp>
          <p:nvSpPr>
            <p:cNvPr id="1041" name="Text Box 54"/>
            <p:cNvSpPr/>
            <p:nvPr/>
          </p:nvSpPr>
          <p:spPr>
            <a:xfrm>
              <a:off x="6532560" y="49798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55"/>
            <p:cNvSpPr/>
            <p:nvPr/>
          </p:nvSpPr>
          <p:spPr>
            <a:xfrm>
              <a:off x="6532560" y="54320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6705360" y="5446800"/>
              <a:ext cx="276840" cy="360"/>
              <a:chOff x="6705360" y="5446800"/>
              <a:chExt cx="276840" cy="360"/>
            </a:xfrm>
          </p:grpSpPr>
          <p:sp>
            <p:nvSpPr>
              <p:cNvPr id="1044" name="Line 56"/>
              <p:cNvSpPr/>
              <p:nvPr/>
            </p:nvSpPr>
            <p:spPr>
              <a:xfrm>
                <a:off x="6705360" y="544680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 txBox="1"/>
              <p:nvPr/>
            </p:nvSpPr>
            <p:spPr>
              <a:xfrm>
                <a:off x="6705360" y="54468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文本框 49"/>
          <p:cNvSpPr/>
          <p:nvPr/>
        </p:nvSpPr>
        <p:spPr>
          <a:xfrm>
            <a:off x="7156440" y="5127480"/>
            <a:ext cx="380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50"/>
          <p:cNvSpPr/>
          <p:nvPr/>
        </p:nvSpPr>
        <p:spPr>
          <a:xfrm>
            <a:off x="1133640" y="5638680"/>
            <a:ext cx="3133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也就是（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51"/>
          <p:cNvSpPr/>
          <p:nvPr/>
        </p:nvSpPr>
        <p:spPr>
          <a:xfrm>
            <a:off x="6705720" y="1504800"/>
            <a:ext cx="8143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32"/>
          <p:cNvGrpSpPr/>
          <p:nvPr/>
        </p:nvGrpSpPr>
        <p:grpSpPr>
          <a:xfrm>
            <a:off x="2111400" y="2098800"/>
            <a:ext cx="593640" cy="835920"/>
            <a:chOff x="2111400" y="2098800"/>
            <a:chExt cx="593640" cy="835920"/>
          </a:xfrm>
        </p:grpSpPr>
        <p:sp>
          <p:nvSpPr>
            <p:cNvPr id="1050" name="Text Box 54"/>
            <p:cNvSpPr/>
            <p:nvPr/>
          </p:nvSpPr>
          <p:spPr>
            <a:xfrm>
              <a:off x="2111400" y="20988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55"/>
            <p:cNvSpPr/>
            <p:nvPr/>
          </p:nvSpPr>
          <p:spPr>
            <a:xfrm>
              <a:off x="2111400" y="25664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2275560" y="2565720"/>
              <a:ext cx="263160" cy="360"/>
              <a:chOff x="2275560" y="2565720"/>
              <a:chExt cx="263160" cy="360"/>
            </a:xfrm>
          </p:grpSpPr>
          <p:sp>
            <p:nvSpPr>
              <p:cNvPr id="1053" name="Line 56"/>
              <p:cNvSpPr/>
              <p:nvPr/>
            </p:nvSpPr>
            <p:spPr>
              <a:xfrm>
                <a:off x="2275560" y="256572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 txBox="1"/>
              <p:nvPr/>
            </p:nvSpPr>
            <p:spPr>
              <a:xfrm>
                <a:off x="2275560" y="256572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文本框 56"/>
          <p:cNvSpPr/>
          <p:nvPr/>
        </p:nvSpPr>
        <p:spPr>
          <a:xfrm>
            <a:off x="4216320" y="2239920"/>
            <a:ext cx="3999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4545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57"/>
          <p:cNvSpPr/>
          <p:nvPr/>
        </p:nvSpPr>
        <p:spPr>
          <a:xfrm>
            <a:off x="6581880" y="2239920"/>
            <a:ext cx="3999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组合 32"/>
          <p:cNvGrpSpPr/>
          <p:nvPr/>
        </p:nvGrpSpPr>
        <p:grpSpPr>
          <a:xfrm>
            <a:off x="6815160" y="2736720"/>
            <a:ext cx="593640" cy="835200"/>
            <a:chOff x="6815160" y="2736720"/>
            <a:chExt cx="593640" cy="835200"/>
          </a:xfrm>
        </p:grpSpPr>
        <p:sp>
          <p:nvSpPr>
            <p:cNvPr id="1058" name="Text Box 54"/>
            <p:cNvSpPr/>
            <p:nvPr/>
          </p:nvSpPr>
          <p:spPr>
            <a:xfrm>
              <a:off x="6815160" y="27367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55"/>
            <p:cNvSpPr/>
            <p:nvPr/>
          </p:nvSpPr>
          <p:spPr>
            <a:xfrm>
              <a:off x="6815160" y="32036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6979320" y="3202920"/>
              <a:ext cx="263160" cy="360"/>
              <a:chOff x="6979320" y="3202920"/>
              <a:chExt cx="263160" cy="360"/>
            </a:xfrm>
          </p:grpSpPr>
          <p:sp>
            <p:nvSpPr>
              <p:cNvPr id="1061" name="Line 56"/>
              <p:cNvSpPr/>
              <p:nvPr/>
            </p:nvSpPr>
            <p:spPr>
              <a:xfrm>
                <a:off x="6979320" y="320292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 txBox="1"/>
              <p:nvPr/>
            </p:nvSpPr>
            <p:spPr>
              <a:xfrm>
                <a:off x="6979320" y="320292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3" name="组合 32"/>
          <p:cNvGrpSpPr/>
          <p:nvPr/>
        </p:nvGrpSpPr>
        <p:grpSpPr>
          <a:xfrm>
            <a:off x="2276640" y="3203640"/>
            <a:ext cx="593640" cy="835920"/>
            <a:chOff x="2276640" y="3203640"/>
            <a:chExt cx="593640" cy="835920"/>
          </a:xfrm>
        </p:grpSpPr>
        <p:sp>
          <p:nvSpPr>
            <p:cNvPr id="1064" name="Text Box 54"/>
            <p:cNvSpPr/>
            <p:nvPr/>
          </p:nvSpPr>
          <p:spPr>
            <a:xfrm>
              <a:off x="2276640" y="32036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5"/>
            <p:cNvSpPr/>
            <p:nvPr/>
          </p:nvSpPr>
          <p:spPr>
            <a:xfrm>
              <a:off x="2276640" y="367128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2440800" y="3670560"/>
              <a:ext cx="263160" cy="360"/>
              <a:chOff x="2440800" y="3670560"/>
              <a:chExt cx="263160" cy="360"/>
            </a:xfrm>
          </p:grpSpPr>
          <p:sp>
            <p:nvSpPr>
              <p:cNvPr id="1067" name="Line 56"/>
              <p:cNvSpPr/>
              <p:nvPr/>
            </p:nvSpPr>
            <p:spPr>
              <a:xfrm>
                <a:off x="2440800" y="367056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 txBox="1"/>
              <p:nvPr/>
            </p:nvSpPr>
            <p:spPr>
              <a:xfrm>
                <a:off x="2440800" y="367056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9" name="文本框 66"/>
          <p:cNvSpPr/>
          <p:nvPr/>
        </p:nvSpPr>
        <p:spPr>
          <a:xfrm>
            <a:off x="5388120" y="4048200"/>
            <a:ext cx="401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32"/>
          <p:cNvGrpSpPr/>
          <p:nvPr/>
        </p:nvGrpSpPr>
        <p:grpSpPr>
          <a:xfrm>
            <a:off x="2403360" y="4591080"/>
            <a:ext cx="594000" cy="826920"/>
            <a:chOff x="2403360" y="4591080"/>
            <a:chExt cx="594000" cy="826920"/>
          </a:xfrm>
        </p:grpSpPr>
        <p:sp>
          <p:nvSpPr>
            <p:cNvPr id="1071" name="Text Box 54"/>
            <p:cNvSpPr/>
            <p:nvPr/>
          </p:nvSpPr>
          <p:spPr>
            <a:xfrm>
              <a:off x="2403360" y="459108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 Box 55"/>
            <p:cNvSpPr/>
            <p:nvPr/>
          </p:nvSpPr>
          <p:spPr>
            <a:xfrm>
              <a:off x="2403360" y="504972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2567880" y="5049360"/>
              <a:ext cx="263520" cy="360"/>
              <a:chOff x="2567880" y="5049360"/>
              <a:chExt cx="263520" cy="360"/>
            </a:xfrm>
          </p:grpSpPr>
          <p:sp>
            <p:nvSpPr>
              <p:cNvPr id="1074" name="Line 56"/>
              <p:cNvSpPr/>
              <p:nvPr/>
            </p:nvSpPr>
            <p:spPr>
              <a:xfrm>
                <a:off x="2567880" y="5049360"/>
                <a:ext cx="26352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 txBox="1"/>
              <p:nvPr/>
            </p:nvSpPr>
            <p:spPr>
              <a:xfrm>
                <a:off x="2567880" y="5049360"/>
                <a:ext cx="26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6" name="文本框 71"/>
          <p:cNvSpPr/>
          <p:nvPr/>
        </p:nvSpPr>
        <p:spPr>
          <a:xfrm>
            <a:off x="5457960" y="5345280"/>
            <a:ext cx="39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组合 32"/>
          <p:cNvGrpSpPr/>
          <p:nvPr/>
        </p:nvGrpSpPr>
        <p:grpSpPr>
          <a:xfrm>
            <a:off x="2403360" y="5638680"/>
            <a:ext cx="594000" cy="827640"/>
            <a:chOff x="2403360" y="5638680"/>
            <a:chExt cx="594000" cy="827640"/>
          </a:xfrm>
        </p:grpSpPr>
        <p:sp>
          <p:nvSpPr>
            <p:cNvPr id="1078" name="Text Box 54"/>
            <p:cNvSpPr/>
            <p:nvPr/>
          </p:nvSpPr>
          <p:spPr>
            <a:xfrm>
              <a:off x="2403360" y="563868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55"/>
            <p:cNvSpPr/>
            <p:nvPr/>
          </p:nvSpPr>
          <p:spPr>
            <a:xfrm>
              <a:off x="2403360" y="609804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2567880" y="6097680"/>
              <a:ext cx="263520" cy="360"/>
              <a:chOff x="2567880" y="6097680"/>
              <a:chExt cx="263520" cy="360"/>
            </a:xfrm>
          </p:grpSpPr>
          <p:sp>
            <p:nvSpPr>
              <p:cNvPr id="1081" name="Line 56"/>
              <p:cNvSpPr/>
              <p:nvPr/>
            </p:nvSpPr>
            <p:spPr>
              <a:xfrm>
                <a:off x="2567880" y="6097680"/>
                <a:ext cx="26352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 txBox="1"/>
              <p:nvPr/>
            </p:nvSpPr>
            <p:spPr>
              <a:xfrm>
                <a:off x="2567880" y="6097680"/>
                <a:ext cx="26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3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084" name="圆角矩形 1" descr=""/>
            <p:cNvPicPr/>
            <p:nvPr/>
          </p:nvPicPr>
          <p:blipFill>
            <a:blip r:embed="rId1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5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086" name="椭圆 3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椭圆 6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9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3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文本框 1"/>
          <p:cNvSpPr/>
          <p:nvPr/>
        </p:nvSpPr>
        <p:spPr>
          <a:xfrm>
            <a:off x="453960" y="825480"/>
            <a:ext cx="53420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图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组合 12" descr=""/>
          <p:cNvPicPr/>
          <p:nvPr/>
        </p:nvPicPr>
        <p:blipFill>
          <a:blip r:embed="rId1"/>
          <a:stretch/>
        </p:blipFill>
        <p:spPr>
          <a:xfrm>
            <a:off x="1654200" y="1913040"/>
            <a:ext cx="1255680" cy="927000"/>
          </a:xfrm>
          <a:prstGeom prst="rect">
            <a:avLst/>
          </a:prstGeom>
          <a:ln w="0">
            <a:noFill/>
          </a:ln>
        </p:spPr>
      </p:pic>
      <p:sp>
        <p:nvSpPr>
          <p:cNvPr id="1096" name="文本框 13"/>
          <p:cNvSpPr/>
          <p:nvPr/>
        </p:nvSpPr>
        <p:spPr>
          <a:xfrm>
            <a:off x="387360" y="1998720"/>
            <a:ext cx="1038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14"/>
          <p:cNvSpPr/>
          <p:nvPr/>
        </p:nvSpPr>
        <p:spPr>
          <a:xfrm>
            <a:off x="453960" y="3314880"/>
            <a:ext cx="103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15"/>
          <p:cNvSpPr/>
          <p:nvPr/>
        </p:nvSpPr>
        <p:spPr>
          <a:xfrm>
            <a:off x="463680" y="4653000"/>
            <a:ext cx="1038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组合 35"/>
          <p:cNvGrpSpPr/>
          <p:nvPr/>
        </p:nvGrpSpPr>
        <p:grpSpPr>
          <a:xfrm>
            <a:off x="3267000" y="3152880"/>
            <a:ext cx="1020960" cy="1009440"/>
            <a:chOff x="3267000" y="3152880"/>
            <a:chExt cx="1020960" cy="1009440"/>
          </a:xfrm>
        </p:grpSpPr>
        <p:sp>
          <p:nvSpPr>
            <p:cNvPr id="1100" name="饼形 27"/>
            <p:cNvSpPr/>
            <p:nvPr/>
          </p:nvSpPr>
          <p:spPr>
            <a:xfrm>
              <a:off x="3267000" y="3152880"/>
              <a:ext cx="1009440" cy="1009440"/>
            </a:xfrm>
            <a:custGeom>
              <a:avLst/>
              <a:gdLst/>
              <a:ahLst/>
              <a:rect l="l" t="t" r="r" b="b"/>
              <a:pathLst>
                <a:path w="1588" h="1588">
                  <a:moveTo>
                    <a:pt x="808" y="0"/>
                  </a:moveTo>
                  <a:cubicBezTo>
                    <a:pt x="1240" y="8"/>
                    <a:pt x="1587" y="361"/>
                    <a:pt x="1587" y="794"/>
                  </a:cubicBezTo>
                  <a:cubicBezTo>
                    <a:pt x="1587" y="1233"/>
                    <a:pt x="1232" y="1588"/>
                    <a:pt x="793" y="1588"/>
                  </a:cubicBezTo>
                  <a:cubicBezTo>
                    <a:pt x="354" y="1588"/>
                    <a:pt x="-1" y="1233"/>
                    <a:pt x="-1" y="794"/>
                  </a:cubicBezTo>
                  <a:cubicBezTo>
                    <a:pt x="-1" y="355"/>
                    <a:pt x="354" y="0"/>
                    <a:pt x="793" y="0"/>
                  </a:cubicBezTo>
                  <a:lnTo>
                    <a:pt x="794" y="79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饼形 28"/>
            <p:cNvSpPr/>
            <p:nvPr/>
          </p:nvSpPr>
          <p:spPr>
            <a:xfrm>
              <a:off x="3267000" y="3152880"/>
              <a:ext cx="1020960" cy="1009440"/>
            </a:xfrm>
            <a:custGeom>
              <a:avLst/>
              <a:gdLst/>
              <a:ahLst/>
              <a:rect l="l" t="t" r="r" b="b"/>
              <a:pathLst>
                <a:path w="1606" h="1588">
                  <a:moveTo>
                    <a:pt x="226" y="1347"/>
                  </a:moveTo>
                  <a:cubicBezTo>
                    <a:pt x="85" y="1204"/>
                    <a:pt x="-1" y="1009"/>
                    <a:pt x="-1" y="794"/>
                  </a:cubicBezTo>
                  <a:cubicBezTo>
                    <a:pt x="-1" y="355"/>
                    <a:pt x="359" y="0"/>
                    <a:pt x="802" y="0"/>
                  </a:cubicBezTo>
                  <a:lnTo>
                    <a:pt x="803" y="794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组合 40"/>
          <p:cNvGrpSpPr/>
          <p:nvPr/>
        </p:nvGrpSpPr>
        <p:grpSpPr>
          <a:xfrm>
            <a:off x="1501560" y="3152880"/>
            <a:ext cx="1098360" cy="1009440"/>
            <a:chOff x="1501560" y="3152880"/>
            <a:chExt cx="1098360" cy="1009440"/>
          </a:xfrm>
        </p:grpSpPr>
        <p:sp>
          <p:nvSpPr>
            <p:cNvPr id="1103" name="饼形 37"/>
            <p:cNvSpPr/>
            <p:nvPr/>
          </p:nvSpPr>
          <p:spPr>
            <a:xfrm flipH="1">
              <a:off x="1501200" y="3152880"/>
              <a:ext cx="1098360" cy="1009440"/>
            </a:xfrm>
            <a:custGeom>
              <a:avLst/>
              <a:gdLst/>
              <a:ahLst/>
              <a:rect l="l" t="t" r="r" b="b"/>
              <a:pathLst>
                <a:path w="1588" h="1588">
                  <a:moveTo>
                    <a:pt x="808" y="0"/>
                  </a:moveTo>
                  <a:cubicBezTo>
                    <a:pt x="1240" y="8"/>
                    <a:pt x="1587" y="361"/>
                    <a:pt x="1587" y="794"/>
                  </a:cubicBezTo>
                  <a:cubicBezTo>
                    <a:pt x="1587" y="1224"/>
                    <a:pt x="1246" y="1574"/>
                    <a:pt x="819" y="1588"/>
                  </a:cubicBezTo>
                  <a:lnTo>
                    <a:pt x="794" y="794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39"/>
            <p:cNvSpPr/>
            <p:nvPr/>
          </p:nvSpPr>
          <p:spPr>
            <a:xfrm>
              <a:off x="1501920" y="3152880"/>
              <a:ext cx="1019520" cy="1009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组合 55"/>
          <p:cNvGrpSpPr/>
          <p:nvPr/>
        </p:nvGrpSpPr>
        <p:grpSpPr>
          <a:xfrm>
            <a:off x="4511520" y="3103560"/>
            <a:ext cx="4035240" cy="864000"/>
            <a:chOff x="4511520" y="3103560"/>
            <a:chExt cx="4035240" cy="864000"/>
          </a:xfrm>
        </p:grpSpPr>
        <p:grpSp>
          <p:nvGrpSpPr>
            <p:cNvPr id="1106" name="组合 32"/>
            <p:cNvGrpSpPr/>
            <p:nvPr/>
          </p:nvGrpSpPr>
          <p:grpSpPr>
            <a:xfrm>
              <a:off x="4511520" y="3153600"/>
              <a:ext cx="1414800" cy="813960"/>
              <a:chOff x="4511520" y="3153600"/>
              <a:chExt cx="1414800" cy="813960"/>
            </a:xfrm>
          </p:grpSpPr>
          <p:sp>
            <p:nvSpPr>
              <p:cNvPr id="1107" name="Text Box 54"/>
              <p:cNvSpPr/>
              <p:nvPr/>
            </p:nvSpPr>
            <p:spPr>
              <a:xfrm>
                <a:off x="4511520" y="315360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Text Box 55"/>
              <p:cNvSpPr/>
              <p:nvPr/>
            </p:nvSpPr>
            <p:spPr>
              <a:xfrm>
                <a:off x="4512600" y="359928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4904280" y="3614040"/>
                <a:ext cx="627120" cy="360"/>
                <a:chOff x="4904280" y="3614040"/>
                <a:chExt cx="627120" cy="360"/>
              </a:xfrm>
            </p:grpSpPr>
            <p:sp>
              <p:nvSpPr>
                <p:cNvPr id="1110" name="Line 56"/>
                <p:cNvSpPr/>
                <p:nvPr/>
              </p:nvSpPr>
              <p:spPr>
                <a:xfrm>
                  <a:off x="4904280" y="361404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 txBox="1"/>
                <p:nvPr/>
              </p:nvSpPr>
              <p:spPr>
                <a:xfrm>
                  <a:off x="4904280" y="361404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2" name="组合 32"/>
            <p:cNvGrpSpPr/>
            <p:nvPr/>
          </p:nvGrpSpPr>
          <p:grpSpPr>
            <a:xfrm>
              <a:off x="5913000" y="3103560"/>
              <a:ext cx="1414800" cy="814320"/>
              <a:chOff x="5913000" y="3103560"/>
              <a:chExt cx="1414800" cy="814320"/>
            </a:xfrm>
          </p:grpSpPr>
          <p:sp>
            <p:nvSpPr>
              <p:cNvPr id="1113" name="Text Box 54"/>
              <p:cNvSpPr/>
              <p:nvPr/>
            </p:nvSpPr>
            <p:spPr>
              <a:xfrm>
                <a:off x="5913000" y="310356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Text Box 55"/>
              <p:cNvSpPr/>
              <p:nvPr/>
            </p:nvSpPr>
            <p:spPr>
              <a:xfrm>
                <a:off x="5914080" y="3549600"/>
                <a:ext cx="141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6305760" y="3564000"/>
                <a:ext cx="627120" cy="360"/>
                <a:chOff x="6305760" y="3564000"/>
                <a:chExt cx="627120" cy="360"/>
              </a:xfrm>
            </p:grpSpPr>
            <p:sp>
              <p:nvSpPr>
                <p:cNvPr id="1116" name="Line 56"/>
                <p:cNvSpPr/>
                <p:nvPr/>
              </p:nvSpPr>
              <p:spPr>
                <a:xfrm>
                  <a:off x="6305760" y="356400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 txBox="1"/>
                <p:nvPr/>
              </p:nvSpPr>
              <p:spPr>
                <a:xfrm>
                  <a:off x="6305760" y="356400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8" name="组合 32"/>
            <p:cNvGrpSpPr/>
            <p:nvPr/>
          </p:nvGrpSpPr>
          <p:grpSpPr>
            <a:xfrm>
              <a:off x="7130880" y="3153600"/>
              <a:ext cx="1415880" cy="714600"/>
              <a:chOff x="7130880" y="3153600"/>
              <a:chExt cx="1415880" cy="714600"/>
            </a:xfrm>
          </p:grpSpPr>
          <p:sp>
            <p:nvSpPr>
              <p:cNvPr id="1119" name="Text Box 54"/>
              <p:cNvSpPr/>
              <p:nvPr/>
            </p:nvSpPr>
            <p:spPr>
              <a:xfrm>
                <a:off x="7130880" y="315360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Text Box 55"/>
              <p:cNvSpPr/>
              <p:nvPr/>
            </p:nvSpPr>
            <p:spPr>
              <a:xfrm>
                <a:off x="7132680" y="349992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7524360" y="3514680"/>
                <a:ext cx="627120" cy="360"/>
                <a:chOff x="7524360" y="3514680"/>
                <a:chExt cx="627120" cy="360"/>
              </a:xfrm>
            </p:grpSpPr>
            <p:sp>
              <p:nvSpPr>
                <p:cNvPr id="1122" name="Line 56"/>
                <p:cNvSpPr/>
                <p:nvPr/>
              </p:nvSpPr>
              <p:spPr>
                <a:xfrm>
                  <a:off x="7524360" y="351468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 txBox="1"/>
                <p:nvPr/>
              </p:nvSpPr>
              <p:spPr>
                <a:xfrm>
                  <a:off x="7524360" y="351468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文本框 53"/>
            <p:cNvSpPr/>
            <p:nvPr/>
          </p:nvSpPr>
          <p:spPr>
            <a:xfrm>
              <a:off x="5703480" y="3264840"/>
              <a:ext cx="609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文本框 54"/>
            <p:cNvSpPr/>
            <p:nvPr/>
          </p:nvSpPr>
          <p:spPr>
            <a:xfrm>
              <a:off x="6991920" y="3271680"/>
              <a:ext cx="609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组合 56"/>
          <p:cNvGrpSpPr/>
          <p:nvPr/>
        </p:nvGrpSpPr>
        <p:grpSpPr>
          <a:xfrm>
            <a:off x="4381560" y="4635360"/>
            <a:ext cx="4037040" cy="864360"/>
            <a:chOff x="4381560" y="4635360"/>
            <a:chExt cx="4037040" cy="864360"/>
          </a:xfrm>
        </p:grpSpPr>
        <p:grpSp>
          <p:nvGrpSpPr>
            <p:cNvPr id="1127" name="组合 32"/>
            <p:cNvGrpSpPr/>
            <p:nvPr/>
          </p:nvGrpSpPr>
          <p:grpSpPr>
            <a:xfrm>
              <a:off x="4381560" y="4685400"/>
              <a:ext cx="1415160" cy="814320"/>
              <a:chOff x="4381560" y="4685400"/>
              <a:chExt cx="1415160" cy="814320"/>
            </a:xfrm>
          </p:grpSpPr>
          <p:sp>
            <p:nvSpPr>
              <p:cNvPr id="1128" name="Text Box 54"/>
              <p:cNvSpPr/>
              <p:nvPr/>
            </p:nvSpPr>
            <p:spPr>
              <a:xfrm>
                <a:off x="4381560" y="468540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Text Box 55"/>
              <p:cNvSpPr/>
              <p:nvPr/>
            </p:nvSpPr>
            <p:spPr>
              <a:xfrm>
                <a:off x="4382640" y="513144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4774320" y="5145840"/>
                <a:ext cx="627120" cy="360"/>
                <a:chOff x="4774320" y="5145840"/>
                <a:chExt cx="627120" cy="360"/>
              </a:xfrm>
            </p:grpSpPr>
            <p:sp>
              <p:nvSpPr>
                <p:cNvPr id="1131" name="Line 56"/>
                <p:cNvSpPr/>
                <p:nvPr/>
              </p:nvSpPr>
              <p:spPr>
                <a:xfrm>
                  <a:off x="4774320" y="514584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 txBox="1"/>
                <p:nvPr/>
              </p:nvSpPr>
              <p:spPr>
                <a:xfrm>
                  <a:off x="4774320" y="514584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3" name="组合 32"/>
            <p:cNvGrpSpPr/>
            <p:nvPr/>
          </p:nvGrpSpPr>
          <p:grpSpPr>
            <a:xfrm>
              <a:off x="5783400" y="4635360"/>
              <a:ext cx="1415160" cy="814320"/>
              <a:chOff x="5783400" y="4635360"/>
              <a:chExt cx="1415160" cy="814320"/>
            </a:xfrm>
          </p:grpSpPr>
          <p:sp>
            <p:nvSpPr>
              <p:cNvPr id="1134" name="Text Box 54"/>
              <p:cNvSpPr/>
              <p:nvPr/>
            </p:nvSpPr>
            <p:spPr>
              <a:xfrm>
                <a:off x="5783400" y="463536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 Box 55"/>
              <p:cNvSpPr/>
              <p:nvPr/>
            </p:nvSpPr>
            <p:spPr>
              <a:xfrm>
                <a:off x="5784480" y="5081400"/>
                <a:ext cx="141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6176160" y="5096160"/>
                <a:ext cx="627120" cy="360"/>
                <a:chOff x="6176160" y="5096160"/>
                <a:chExt cx="627120" cy="360"/>
              </a:xfrm>
            </p:grpSpPr>
            <p:sp>
              <p:nvSpPr>
                <p:cNvPr id="1137" name="Line 56"/>
                <p:cNvSpPr/>
                <p:nvPr/>
              </p:nvSpPr>
              <p:spPr>
                <a:xfrm>
                  <a:off x="6176160" y="5096160"/>
                  <a:ext cx="627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 txBox="1"/>
                <p:nvPr/>
              </p:nvSpPr>
              <p:spPr>
                <a:xfrm>
                  <a:off x="6176160" y="5096160"/>
                  <a:ext cx="62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9" name="组合 32"/>
            <p:cNvGrpSpPr/>
            <p:nvPr/>
          </p:nvGrpSpPr>
          <p:grpSpPr>
            <a:xfrm>
              <a:off x="7002000" y="4685400"/>
              <a:ext cx="1416600" cy="714960"/>
              <a:chOff x="7002000" y="4685400"/>
              <a:chExt cx="1416600" cy="714960"/>
            </a:xfrm>
          </p:grpSpPr>
          <p:sp>
            <p:nvSpPr>
              <p:cNvPr id="1140" name="Text Box 54"/>
              <p:cNvSpPr/>
              <p:nvPr/>
            </p:nvSpPr>
            <p:spPr>
              <a:xfrm>
                <a:off x="7002000" y="4685400"/>
                <a:ext cx="141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Text Box 55"/>
              <p:cNvSpPr/>
              <p:nvPr/>
            </p:nvSpPr>
            <p:spPr>
              <a:xfrm>
                <a:off x="7003800" y="5032080"/>
                <a:ext cx="141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（ 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7395840" y="5046840"/>
                <a:ext cx="627480" cy="360"/>
                <a:chOff x="7395840" y="5046840"/>
                <a:chExt cx="627480" cy="360"/>
              </a:xfrm>
            </p:grpSpPr>
            <p:sp>
              <p:nvSpPr>
                <p:cNvPr id="1143" name="Line 56"/>
                <p:cNvSpPr/>
                <p:nvPr/>
              </p:nvSpPr>
              <p:spPr>
                <a:xfrm>
                  <a:off x="7395840" y="5046840"/>
                  <a:ext cx="627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 txBox="1"/>
                <p:nvPr/>
              </p:nvSpPr>
              <p:spPr>
                <a:xfrm>
                  <a:off x="7395840" y="5046840"/>
                  <a:ext cx="627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文本框 69"/>
            <p:cNvSpPr/>
            <p:nvPr/>
          </p:nvSpPr>
          <p:spPr>
            <a:xfrm>
              <a:off x="5573880" y="4796640"/>
              <a:ext cx="610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文本框 70"/>
            <p:cNvSpPr/>
            <p:nvPr/>
          </p:nvSpPr>
          <p:spPr>
            <a:xfrm>
              <a:off x="6863040" y="4803480"/>
              <a:ext cx="610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组合 93"/>
          <p:cNvGrpSpPr/>
          <p:nvPr/>
        </p:nvGrpSpPr>
        <p:grpSpPr>
          <a:xfrm>
            <a:off x="1276200" y="4844880"/>
            <a:ext cx="1246320" cy="601920"/>
            <a:chOff x="1276200" y="4844880"/>
            <a:chExt cx="1246320" cy="601920"/>
          </a:xfrm>
        </p:grpSpPr>
        <p:sp>
          <p:nvSpPr>
            <p:cNvPr id="1148" name="Rectangle 13"/>
            <p:cNvSpPr/>
            <p:nvPr/>
          </p:nvSpPr>
          <p:spPr>
            <a:xfrm>
              <a:off x="2107440" y="4844880"/>
              <a:ext cx="415080" cy="30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2"/>
            <p:cNvSpPr/>
            <p:nvPr/>
          </p:nvSpPr>
          <p:spPr>
            <a:xfrm>
              <a:off x="1276200" y="4844880"/>
              <a:ext cx="415080" cy="30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12"/>
            <p:cNvSpPr/>
            <p:nvPr/>
          </p:nvSpPr>
          <p:spPr>
            <a:xfrm>
              <a:off x="1691280" y="4844880"/>
              <a:ext cx="415080" cy="30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12"/>
            <p:cNvSpPr/>
            <p:nvPr/>
          </p:nvSpPr>
          <p:spPr>
            <a:xfrm>
              <a:off x="1276200" y="5145840"/>
              <a:ext cx="415080" cy="300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12"/>
            <p:cNvSpPr/>
            <p:nvPr/>
          </p:nvSpPr>
          <p:spPr>
            <a:xfrm>
              <a:off x="1691280" y="5145840"/>
              <a:ext cx="415080" cy="300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13"/>
            <p:cNvSpPr/>
            <p:nvPr/>
          </p:nvSpPr>
          <p:spPr>
            <a:xfrm>
              <a:off x="2107440" y="5145840"/>
              <a:ext cx="415080" cy="300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组合 94"/>
          <p:cNvGrpSpPr/>
          <p:nvPr/>
        </p:nvGrpSpPr>
        <p:grpSpPr>
          <a:xfrm>
            <a:off x="3216240" y="4915080"/>
            <a:ext cx="1244160" cy="601200"/>
            <a:chOff x="3216240" y="4915080"/>
            <a:chExt cx="1244160" cy="601200"/>
          </a:xfrm>
        </p:grpSpPr>
        <p:sp>
          <p:nvSpPr>
            <p:cNvPr id="1155" name="Rectangle 13"/>
            <p:cNvSpPr/>
            <p:nvPr/>
          </p:nvSpPr>
          <p:spPr>
            <a:xfrm>
              <a:off x="4043880" y="49150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2"/>
            <p:cNvSpPr/>
            <p:nvPr/>
          </p:nvSpPr>
          <p:spPr>
            <a:xfrm>
              <a:off x="3216240" y="49150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2"/>
            <p:cNvSpPr/>
            <p:nvPr/>
          </p:nvSpPr>
          <p:spPr>
            <a:xfrm>
              <a:off x="3629160" y="49150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2"/>
            <p:cNvSpPr/>
            <p:nvPr/>
          </p:nvSpPr>
          <p:spPr>
            <a:xfrm>
              <a:off x="3216240" y="5215680"/>
              <a:ext cx="415440" cy="300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2"/>
            <p:cNvSpPr/>
            <p:nvPr/>
          </p:nvSpPr>
          <p:spPr>
            <a:xfrm>
              <a:off x="3631680" y="52156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3"/>
            <p:cNvSpPr/>
            <p:nvPr/>
          </p:nvSpPr>
          <p:spPr>
            <a:xfrm>
              <a:off x="4044960" y="5215680"/>
              <a:ext cx="415440" cy="3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文本框 91"/>
          <p:cNvSpPr/>
          <p:nvPr/>
        </p:nvSpPr>
        <p:spPr>
          <a:xfrm>
            <a:off x="2685960" y="3517920"/>
            <a:ext cx="581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92"/>
          <p:cNvSpPr/>
          <p:nvPr/>
        </p:nvSpPr>
        <p:spPr>
          <a:xfrm>
            <a:off x="2685960" y="4794120"/>
            <a:ext cx="581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组合 32"/>
          <p:cNvGrpSpPr/>
          <p:nvPr/>
        </p:nvGrpSpPr>
        <p:grpSpPr>
          <a:xfrm>
            <a:off x="5730840" y="1998720"/>
            <a:ext cx="593640" cy="827640"/>
            <a:chOff x="5730840" y="1998720"/>
            <a:chExt cx="593640" cy="827640"/>
          </a:xfrm>
        </p:grpSpPr>
        <p:sp>
          <p:nvSpPr>
            <p:cNvPr id="1164" name="Text Box 54"/>
            <p:cNvSpPr/>
            <p:nvPr/>
          </p:nvSpPr>
          <p:spPr>
            <a:xfrm>
              <a:off x="5730840" y="19987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Text Box 55"/>
            <p:cNvSpPr/>
            <p:nvPr/>
          </p:nvSpPr>
          <p:spPr>
            <a:xfrm>
              <a:off x="5730840" y="245808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5895000" y="2457720"/>
              <a:ext cx="263160" cy="360"/>
              <a:chOff x="5895000" y="2457720"/>
              <a:chExt cx="263160" cy="360"/>
            </a:xfrm>
          </p:grpSpPr>
          <p:sp>
            <p:nvSpPr>
              <p:cNvPr id="1167" name="Line 56"/>
              <p:cNvSpPr/>
              <p:nvPr/>
            </p:nvSpPr>
            <p:spPr>
              <a:xfrm>
                <a:off x="5895000" y="245772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 txBox="1"/>
              <p:nvPr/>
            </p:nvSpPr>
            <p:spPr>
              <a:xfrm>
                <a:off x="5895000" y="245772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9" name="组合 32"/>
          <p:cNvGrpSpPr/>
          <p:nvPr/>
        </p:nvGrpSpPr>
        <p:grpSpPr>
          <a:xfrm>
            <a:off x="3632040" y="1917720"/>
            <a:ext cx="594000" cy="827640"/>
            <a:chOff x="3632040" y="1917720"/>
            <a:chExt cx="594000" cy="827640"/>
          </a:xfrm>
        </p:grpSpPr>
        <p:sp>
          <p:nvSpPr>
            <p:cNvPr id="1170" name="Text Box 54"/>
            <p:cNvSpPr/>
            <p:nvPr/>
          </p:nvSpPr>
          <p:spPr>
            <a:xfrm>
              <a:off x="3632040" y="191772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Text Box 55"/>
            <p:cNvSpPr/>
            <p:nvPr/>
          </p:nvSpPr>
          <p:spPr>
            <a:xfrm>
              <a:off x="3632040" y="237708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3796560" y="2376720"/>
              <a:ext cx="263520" cy="360"/>
              <a:chOff x="3796560" y="2376720"/>
              <a:chExt cx="263520" cy="360"/>
            </a:xfrm>
          </p:grpSpPr>
          <p:sp>
            <p:nvSpPr>
              <p:cNvPr id="1173" name="Line 56"/>
              <p:cNvSpPr/>
              <p:nvPr/>
            </p:nvSpPr>
            <p:spPr>
              <a:xfrm>
                <a:off x="3796560" y="2376720"/>
                <a:ext cx="26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 txBox="1"/>
              <p:nvPr/>
            </p:nvSpPr>
            <p:spPr>
              <a:xfrm>
                <a:off x="3796560" y="2376720"/>
                <a:ext cx="26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5" name="组合 32"/>
          <p:cNvGrpSpPr/>
          <p:nvPr/>
        </p:nvGrpSpPr>
        <p:grpSpPr>
          <a:xfrm>
            <a:off x="4511520" y="1998720"/>
            <a:ext cx="594000" cy="827640"/>
            <a:chOff x="4511520" y="1998720"/>
            <a:chExt cx="594000" cy="827640"/>
          </a:xfrm>
        </p:grpSpPr>
        <p:sp>
          <p:nvSpPr>
            <p:cNvPr id="1176" name="Text Box 54"/>
            <p:cNvSpPr/>
            <p:nvPr/>
          </p:nvSpPr>
          <p:spPr>
            <a:xfrm>
              <a:off x="4511520" y="199872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Text Box 55"/>
            <p:cNvSpPr/>
            <p:nvPr/>
          </p:nvSpPr>
          <p:spPr>
            <a:xfrm>
              <a:off x="4511520" y="2458080"/>
              <a:ext cx="59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4676040" y="2457720"/>
              <a:ext cx="263520" cy="360"/>
              <a:chOff x="4676040" y="2457720"/>
              <a:chExt cx="263520" cy="360"/>
            </a:xfrm>
          </p:grpSpPr>
          <p:sp>
            <p:nvSpPr>
              <p:cNvPr id="1179" name="Line 56"/>
              <p:cNvSpPr/>
              <p:nvPr/>
            </p:nvSpPr>
            <p:spPr>
              <a:xfrm>
                <a:off x="4676040" y="2457720"/>
                <a:ext cx="26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 txBox="1"/>
              <p:nvPr/>
            </p:nvSpPr>
            <p:spPr>
              <a:xfrm>
                <a:off x="4676040" y="2457720"/>
                <a:ext cx="26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1" name="文本框 108"/>
          <p:cNvSpPr/>
          <p:nvPr/>
        </p:nvSpPr>
        <p:spPr>
          <a:xfrm>
            <a:off x="4164120" y="2131920"/>
            <a:ext cx="610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109"/>
          <p:cNvSpPr/>
          <p:nvPr/>
        </p:nvSpPr>
        <p:spPr>
          <a:xfrm>
            <a:off x="5173560" y="2125800"/>
            <a:ext cx="6098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110"/>
          <p:cNvSpPr/>
          <p:nvPr/>
        </p:nvSpPr>
        <p:spPr>
          <a:xfrm>
            <a:off x="5402160" y="2131920"/>
            <a:ext cx="12495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组合 22"/>
          <p:cNvGrpSpPr/>
          <p:nvPr/>
        </p:nvGrpSpPr>
        <p:grpSpPr>
          <a:xfrm>
            <a:off x="5010120" y="3079800"/>
            <a:ext cx="419040" cy="1002960"/>
            <a:chOff x="5010120" y="3079800"/>
            <a:chExt cx="419040" cy="1002960"/>
          </a:xfrm>
        </p:grpSpPr>
        <p:sp>
          <p:nvSpPr>
            <p:cNvPr id="1185" name="文本框 111"/>
            <p:cNvSpPr/>
            <p:nvPr/>
          </p:nvSpPr>
          <p:spPr>
            <a:xfrm>
              <a:off x="5010120" y="3612960"/>
              <a:ext cx="419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文本框 112"/>
            <p:cNvSpPr/>
            <p:nvPr/>
          </p:nvSpPr>
          <p:spPr>
            <a:xfrm>
              <a:off x="5010120" y="3079800"/>
              <a:ext cx="419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23"/>
          <p:cNvGrpSpPr/>
          <p:nvPr/>
        </p:nvGrpSpPr>
        <p:grpSpPr>
          <a:xfrm>
            <a:off x="6410160" y="3079800"/>
            <a:ext cx="452160" cy="981000"/>
            <a:chOff x="6410160" y="3079800"/>
            <a:chExt cx="452160" cy="981000"/>
          </a:xfrm>
        </p:grpSpPr>
        <p:sp>
          <p:nvSpPr>
            <p:cNvPr id="1188" name="文本框 113"/>
            <p:cNvSpPr/>
            <p:nvPr/>
          </p:nvSpPr>
          <p:spPr>
            <a:xfrm>
              <a:off x="6442920" y="3591000"/>
              <a:ext cx="419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文本框 114"/>
            <p:cNvSpPr/>
            <p:nvPr/>
          </p:nvSpPr>
          <p:spPr>
            <a:xfrm>
              <a:off x="6410160" y="3079800"/>
              <a:ext cx="419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组合 24"/>
          <p:cNvGrpSpPr/>
          <p:nvPr/>
        </p:nvGrpSpPr>
        <p:grpSpPr>
          <a:xfrm>
            <a:off x="7629480" y="3030480"/>
            <a:ext cx="420480" cy="955800"/>
            <a:chOff x="7629480" y="3030480"/>
            <a:chExt cx="420480" cy="955800"/>
          </a:xfrm>
        </p:grpSpPr>
        <p:sp>
          <p:nvSpPr>
            <p:cNvPr id="1191" name="文本框 115"/>
            <p:cNvSpPr/>
            <p:nvPr/>
          </p:nvSpPr>
          <p:spPr>
            <a:xfrm>
              <a:off x="7629480" y="3518280"/>
              <a:ext cx="41940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文本框 116"/>
            <p:cNvSpPr/>
            <p:nvPr/>
          </p:nvSpPr>
          <p:spPr>
            <a:xfrm>
              <a:off x="7630560" y="3030480"/>
              <a:ext cx="419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组合 25"/>
          <p:cNvGrpSpPr/>
          <p:nvPr/>
        </p:nvGrpSpPr>
        <p:grpSpPr>
          <a:xfrm>
            <a:off x="4878360" y="4584600"/>
            <a:ext cx="444240" cy="1029960"/>
            <a:chOff x="4878360" y="4584600"/>
            <a:chExt cx="444240" cy="1029960"/>
          </a:xfrm>
        </p:grpSpPr>
        <p:sp>
          <p:nvSpPr>
            <p:cNvPr id="1194" name="文本框 117"/>
            <p:cNvSpPr/>
            <p:nvPr/>
          </p:nvSpPr>
          <p:spPr>
            <a:xfrm>
              <a:off x="4903560" y="5146560"/>
              <a:ext cx="41904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文本框 118"/>
            <p:cNvSpPr/>
            <p:nvPr/>
          </p:nvSpPr>
          <p:spPr>
            <a:xfrm>
              <a:off x="4878360" y="4584600"/>
              <a:ext cx="41940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26"/>
          <p:cNvGrpSpPr/>
          <p:nvPr/>
        </p:nvGrpSpPr>
        <p:grpSpPr>
          <a:xfrm>
            <a:off x="6324480" y="4548240"/>
            <a:ext cx="419400" cy="1017000"/>
            <a:chOff x="6324480" y="4548240"/>
            <a:chExt cx="419400" cy="1017000"/>
          </a:xfrm>
        </p:grpSpPr>
        <p:sp>
          <p:nvSpPr>
            <p:cNvPr id="1197" name="文本框 119"/>
            <p:cNvSpPr/>
            <p:nvPr/>
          </p:nvSpPr>
          <p:spPr>
            <a:xfrm>
              <a:off x="6324480" y="5095800"/>
              <a:ext cx="41940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121"/>
            <p:cNvSpPr/>
            <p:nvPr/>
          </p:nvSpPr>
          <p:spPr>
            <a:xfrm>
              <a:off x="6324480" y="4548240"/>
              <a:ext cx="4194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27"/>
          <p:cNvGrpSpPr/>
          <p:nvPr/>
        </p:nvGrpSpPr>
        <p:grpSpPr>
          <a:xfrm>
            <a:off x="7499520" y="4562640"/>
            <a:ext cx="421920" cy="959760"/>
            <a:chOff x="7499520" y="4562640"/>
            <a:chExt cx="421920" cy="959760"/>
          </a:xfrm>
        </p:grpSpPr>
        <p:sp>
          <p:nvSpPr>
            <p:cNvPr id="1200" name="文本框 120"/>
            <p:cNvSpPr/>
            <p:nvPr/>
          </p:nvSpPr>
          <p:spPr>
            <a:xfrm>
              <a:off x="7499520" y="5052960"/>
              <a:ext cx="41904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122"/>
            <p:cNvSpPr/>
            <p:nvPr/>
          </p:nvSpPr>
          <p:spPr>
            <a:xfrm>
              <a:off x="7502400" y="4562640"/>
              <a:ext cx="41904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203" name="圆角矩形 13" descr=""/>
            <p:cNvPicPr/>
            <p:nvPr/>
          </p:nvPicPr>
          <p:blipFill>
            <a:blip r:embed="rId2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4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205" name="椭圆 14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6" name="椭圆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椭圆 16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8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圆角矩形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圆角矩形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圆角矩形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文本框 3"/>
          <p:cNvSpPr/>
          <p:nvPr/>
        </p:nvSpPr>
        <p:spPr>
          <a:xfrm>
            <a:off x="361800" y="803160"/>
            <a:ext cx="4891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组合 20"/>
          <p:cNvGrpSpPr/>
          <p:nvPr/>
        </p:nvGrpSpPr>
        <p:grpSpPr>
          <a:xfrm>
            <a:off x="588960" y="1790640"/>
            <a:ext cx="2336760" cy="835200"/>
            <a:chOff x="588960" y="1790640"/>
            <a:chExt cx="2336760" cy="835200"/>
          </a:xfrm>
        </p:grpSpPr>
        <p:grpSp>
          <p:nvGrpSpPr>
            <p:cNvPr id="1215" name="组合 32"/>
            <p:cNvGrpSpPr/>
            <p:nvPr/>
          </p:nvGrpSpPr>
          <p:grpSpPr>
            <a:xfrm>
              <a:off x="588960" y="1790640"/>
              <a:ext cx="623160" cy="835200"/>
              <a:chOff x="588960" y="1790640"/>
              <a:chExt cx="623160" cy="835200"/>
            </a:xfrm>
          </p:grpSpPr>
          <p:sp>
            <p:nvSpPr>
              <p:cNvPr id="1216" name="Text Box 54"/>
              <p:cNvSpPr/>
              <p:nvPr/>
            </p:nvSpPr>
            <p:spPr>
              <a:xfrm>
                <a:off x="588960" y="179064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55"/>
              <p:cNvSpPr/>
              <p:nvPr/>
            </p:nvSpPr>
            <p:spPr>
              <a:xfrm>
                <a:off x="588960" y="225756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"/>
              <p:cNvGrpSpPr/>
              <p:nvPr/>
            </p:nvGrpSpPr>
            <p:grpSpPr>
              <a:xfrm>
                <a:off x="762120" y="2256840"/>
                <a:ext cx="276480" cy="360"/>
                <a:chOff x="762120" y="2256840"/>
                <a:chExt cx="276480" cy="360"/>
              </a:xfrm>
            </p:grpSpPr>
            <p:sp>
              <p:nvSpPr>
                <p:cNvPr id="1219" name="Line 56"/>
                <p:cNvSpPr/>
                <p:nvPr/>
              </p:nvSpPr>
              <p:spPr>
                <a:xfrm>
                  <a:off x="762120" y="225684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 txBox="1"/>
                <p:nvPr/>
              </p:nvSpPr>
              <p:spPr>
                <a:xfrm>
                  <a:off x="762120" y="225684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组合 32"/>
            <p:cNvGrpSpPr/>
            <p:nvPr/>
          </p:nvGrpSpPr>
          <p:grpSpPr>
            <a:xfrm>
              <a:off x="1692000" y="1790640"/>
              <a:ext cx="623160" cy="835200"/>
              <a:chOff x="1692000" y="1790640"/>
              <a:chExt cx="623160" cy="835200"/>
            </a:xfrm>
          </p:grpSpPr>
          <p:sp>
            <p:nvSpPr>
              <p:cNvPr id="1222" name="Text Box 54"/>
              <p:cNvSpPr/>
              <p:nvPr/>
            </p:nvSpPr>
            <p:spPr>
              <a:xfrm>
                <a:off x="1692000" y="179064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Text Box 55"/>
              <p:cNvSpPr/>
              <p:nvPr/>
            </p:nvSpPr>
            <p:spPr>
              <a:xfrm>
                <a:off x="1692000" y="225756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4" name=""/>
              <p:cNvGrpSpPr/>
              <p:nvPr/>
            </p:nvGrpSpPr>
            <p:grpSpPr>
              <a:xfrm>
                <a:off x="1865160" y="2256840"/>
                <a:ext cx="276480" cy="360"/>
                <a:chOff x="1865160" y="2256840"/>
                <a:chExt cx="276480" cy="360"/>
              </a:xfrm>
            </p:grpSpPr>
            <p:sp>
              <p:nvSpPr>
                <p:cNvPr id="1225" name="Line 56"/>
                <p:cNvSpPr/>
                <p:nvPr/>
              </p:nvSpPr>
              <p:spPr>
                <a:xfrm>
                  <a:off x="1865160" y="225684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 txBox="1"/>
                <p:nvPr/>
              </p:nvSpPr>
              <p:spPr>
                <a:xfrm>
                  <a:off x="1865160" y="225684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7" name="文本框 91"/>
            <p:cNvSpPr/>
            <p:nvPr/>
          </p:nvSpPr>
          <p:spPr>
            <a:xfrm>
              <a:off x="1201320" y="1882440"/>
              <a:ext cx="58068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文本框 54"/>
            <p:cNvSpPr/>
            <p:nvPr/>
          </p:nvSpPr>
          <p:spPr>
            <a:xfrm>
              <a:off x="2315880" y="1936440"/>
              <a:ext cx="60984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组合 32"/>
          <p:cNvGrpSpPr/>
          <p:nvPr/>
        </p:nvGrpSpPr>
        <p:grpSpPr>
          <a:xfrm>
            <a:off x="3352680" y="1790640"/>
            <a:ext cx="622440" cy="835200"/>
            <a:chOff x="3352680" y="1790640"/>
            <a:chExt cx="622440" cy="835200"/>
          </a:xfrm>
        </p:grpSpPr>
        <p:sp>
          <p:nvSpPr>
            <p:cNvPr id="1230" name="Text Box 54"/>
            <p:cNvSpPr/>
            <p:nvPr/>
          </p:nvSpPr>
          <p:spPr>
            <a:xfrm>
              <a:off x="3352680" y="1790640"/>
              <a:ext cx="6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Text Box 55"/>
            <p:cNvSpPr/>
            <p:nvPr/>
          </p:nvSpPr>
          <p:spPr>
            <a:xfrm>
              <a:off x="3352680" y="2257560"/>
              <a:ext cx="6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"/>
            <p:cNvGrpSpPr/>
            <p:nvPr/>
          </p:nvGrpSpPr>
          <p:grpSpPr>
            <a:xfrm>
              <a:off x="3525480" y="2256840"/>
              <a:ext cx="276120" cy="360"/>
              <a:chOff x="3525480" y="2256840"/>
              <a:chExt cx="276120" cy="360"/>
            </a:xfrm>
          </p:grpSpPr>
          <p:sp>
            <p:nvSpPr>
              <p:cNvPr id="1233" name="Line 56"/>
              <p:cNvSpPr/>
              <p:nvPr/>
            </p:nvSpPr>
            <p:spPr>
              <a:xfrm>
                <a:off x="3525480" y="2256840"/>
                <a:ext cx="276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 txBox="1"/>
              <p:nvPr/>
            </p:nvSpPr>
            <p:spPr>
              <a:xfrm>
                <a:off x="3525480" y="2256840"/>
                <a:ext cx="276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5" name="组合 32"/>
          <p:cNvGrpSpPr/>
          <p:nvPr/>
        </p:nvGrpSpPr>
        <p:grpSpPr>
          <a:xfrm>
            <a:off x="4227480" y="1816200"/>
            <a:ext cx="623880" cy="834840"/>
            <a:chOff x="4227480" y="1816200"/>
            <a:chExt cx="623880" cy="834840"/>
          </a:xfrm>
        </p:grpSpPr>
        <p:sp>
          <p:nvSpPr>
            <p:cNvPr id="1236" name="Text Box 54"/>
            <p:cNvSpPr/>
            <p:nvPr/>
          </p:nvSpPr>
          <p:spPr>
            <a:xfrm>
              <a:off x="4227480" y="1816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55"/>
            <p:cNvSpPr/>
            <p:nvPr/>
          </p:nvSpPr>
          <p:spPr>
            <a:xfrm>
              <a:off x="4227480" y="22827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4401000" y="2282400"/>
              <a:ext cx="276840" cy="360"/>
              <a:chOff x="4401000" y="2282400"/>
              <a:chExt cx="276840" cy="360"/>
            </a:xfrm>
          </p:grpSpPr>
          <p:sp>
            <p:nvSpPr>
              <p:cNvPr id="1239" name="Line 56"/>
              <p:cNvSpPr/>
              <p:nvPr/>
            </p:nvSpPr>
            <p:spPr>
              <a:xfrm>
                <a:off x="4401000" y="228240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 txBox="1"/>
              <p:nvPr/>
            </p:nvSpPr>
            <p:spPr>
              <a:xfrm>
                <a:off x="4401000" y="22824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1" name="文本框 18"/>
          <p:cNvSpPr/>
          <p:nvPr/>
        </p:nvSpPr>
        <p:spPr>
          <a:xfrm>
            <a:off x="3801960" y="2011320"/>
            <a:ext cx="581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19"/>
          <p:cNvSpPr/>
          <p:nvPr/>
        </p:nvSpPr>
        <p:spPr>
          <a:xfrm>
            <a:off x="4851360" y="2013120"/>
            <a:ext cx="609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组合 32"/>
          <p:cNvGrpSpPr/>
          <p:nvPr/>
        </p:nvGrpSpPr>
        <p:grpSpPr>
          <a:xfrm>
            <a:off x="5897520" y="1843200"/>
            <a:ext cx="623880" cy="835920"/>
            <a:chOff x="5897520" y="1843200"/>
            <a:chExt cx="623880" cy="835920"/>
          </a:xfrm>
        </p:grpSpPr>
        <p:sp>
          <p:nvSpPr>
            <p:cNvPr id="1244" name="Text Box 54"/>
            <p:cNvSpPr/>
            <p:nvPr/>
          </p:nvSpPr>
          <p:spPr>
            <a:xfrm>
              <a:off x="5897520" y="1843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55"/>
            <p:cNvSpPr/>
            <p:nvPr/>
          </p:nvSpPr>
          <p:spPr>
            <a:xfrm>
              <a:off x="5897520" y="2310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6" name=""/>
            <p:cNvGrpSpPr/>
            <p:nvPr/>
          </p:nvGrpSpPr>
          <p:grpSpPr>
            <a:xfrm>
              <a:off x="6071040" y="2310120"/>
              <a:ext cx="276840" cy="360"/>
              <a:chOff x="6071040" y="2310120"/>
              <a:chExt cx="276840" cy="360"/>
            </a:xfrm>
          </p:grpSpPr>
          <p:sp>
            <p:nvSpPr>
              <p:cNvPr id="1247" name="Line 56"/>
              <p:cNvSpPr/>
              <p:nvPr/>
            </p:nvSpPr>
            <p:spPr>
              <a:xfrm>
                <a:off x="6071040" y="23101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 txBox="1"/>
              <p:nvPr/>
            </p:nvSpPr>
            <p:spPr>
              <a:xfrm>
                <a:off x="6071040" y="23101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9" name="组合 32"/>
          <p:cNvGrpSpPr/>
          <p:nvPr/>
        </p:nvGrpSpPr>
        <p:grpSpPr>
          <a:xfrm>
            <a:off x="7000920" y="1843200"/>
            <a:ext cx="623880" cy="835920"/>
            <a:chOff x="7000920" y="1843200"/>
            <a:chExt cx="623880" cy="835920"/>
          </a:xfrm>
        </p:grpSpPr>
        <p:sp>
          <p:nvSpPr>
            <p:cNvPr id="1250" name="Text Box 54"/>
            <p:cNvSpPr/>
            <p:nvPr/>
          </p:nvSpPr>
          <p:spPr>
            <a:xfrm>
              <a:off x="7000920" y="1843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Text Box 55"/>
            <p:cNvSpPr/>
            <p:nvPr/>
          </p:nvSpPr>
          <p:spPr>
            <a:xfrm>
              <a:off x="7000920" y="2310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7174440" y="2310120"/>
              <a:ext cx="276840" cy="360"/>
              <a:chOff x="7174440" y="2310120"/>
              <a:chExt cx="276840" cy="360"/>
            </a:xfrm>
          </p:grpSpPr>
          <p:sp>
            <p:nvSpPr>
              <p:cNvPr id="1253" name="Line 56"/>
              <p:cNvSpPr/>
              <p:nvPr/>
            </p:nvSpPr>
            <p:spPr>
              <a:xfrm>
                <a:off x="7174440" y="23101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 txBox="1"/>
              <p:nvPr/>
            </p:nvSpPr>
            <p:spPr>
              <a:xfrm>
                <a:off x="7174440" y="23101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5" name="文本框 37"/>
          <p:cNvSpPr/>
          <p:nvPr/>
        </p:nvSpPr>
        <p:spPr>
          <a:xfrm>
            <a:off x="6508800" y="1935000"/>
            <a:ext cx="58104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38"/>
          <p:cNvSpPr/>
          <p:nvPr/>
        </p:nvSpPr>
        <p:spPr>
          <a:xfrm>
            <a:off x="7624800" y="1989000"/>
            <a:ext cx="6094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组合 51"/>
          <p:cNvGrpSpPr/>
          <p:nvPr/>
        </p:nvGrpSpPr>
        <p:grpSpPr>
          <a:xfrm>
            <a:off x="720720" y="3716280"/>
            <a:ext cx="2282760" cy="835920"/>
            <a:chOff x="720720" y="3716280"/>
            <a:chExt cx="2282760" cy="835920"/>
          </a:xfrm>
        </p:grpSpPr>
        <p:sp>
          <p:nvSpPr>
            <p:cNvPr id="1258" name="Text Box 54"/>
            <p:cNvSpPr/>
            <p:nvPr/>
          </p:nvSpPr>
          <p:spPr>
            <a:xfrm>
              <a:off x="1769760" y="3716280"/>
              <a:ext cx="6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Text Box 55"/>
            <p:cNvSpPr/>
            <p:nvPr/>
          </p:nvSpPr>
          <p:spPr>
            <a:xfrm>
              <a:off x="1769760" y="4183920"/>
              <a:ext cx="6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1942920" y="4183200"/>
              <a:ext cx="276480" cy="360"/>
              <a:chOff x="1942920" y="4183200"/>
              <a:chExt cx="276480" cy="360"/>
            </a:xfrm>
          </p:grpSpPr>
          <p:sp>
            <p:nvSpPr>
              <p:cNvPr id="1261" name="Line 56"/>
              <p:cNvSpPr/>
              <p:nvPr/>
            </p:nvSpPr>
            <p:spPr>
              <a:xfrm>
                <a:off x="1942920" y="4183200"/>
                <a:ext cx="276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 txBox="1"/>
              <p:nvPr/>
            </p:nvSpPr>
            <p:spPr>
              <a:xfrm>
                <a:off x="1942920" y="4183200"/>
                <a:ext cx="276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3" name="文本框 48"/>
            <p:cNvSpPr/>
            <p:nvPr/>
          </p:nvSpPr>
          <p:spPr>
            <a:xfrm>
              <a:off x="1278000" y="3808440"/>
              <a:ext cx="581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文本框 49"/>
            <p:cNvSpPr/>
            <p:nvPr/>
          </p:nvSpPr>
          <p:spPr>
            <a:xfrm>
              <a:off x="2393280" y="3862080"/>
              <a:ext cx="610200" cy="4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文本框 50"/>
            <p:cNvSpPr/>
            <p:nvPr/>
          </p:nvSpPr>
          <p:spPr>
            <a:xfrm>
              <a:off x="720720" y="3932640"/>
              <a:ext cx="4737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组合 52"/>
          <p:cNvGrpSpPr/>
          <p:nvPr/>
        </p:nvGrpSpPr>
        <p:grpSpPr>
          <a:xfrm>
            <a:off x="3525840" y="3654360"/>
            <a:ext cx="2336400" cy="870840"/>
            <a:chOff x="3525840" y="3654360"/>
            <a:chExt cx="2336400" cy="870840"/>
          </a:xfrm>
        </p:grpSpPr>
        <p:grpSp>
          <p:nvGrpSpPr>
            <p:cNvPr id="1267" name="组合 32"/>
            <p:cNvGrpSpPr/>
            <p:nvPr/>
          </p:nvGrpSpPr>
          <p:grpSpPr>
            <a:xfrm>
              <a:off x="3525840" y="3654360"/>
              <a:ext cx="623160" cy="870480"/>
              <a:chOff x="3525840" y="3654360"/>
              <a:chExt cx="623160" cy="870480"/>
            </a:xfrm>
          </p:grpSpPr>
          <p:sp>
            <p:nvSpPr>
              <p:cNvPr id="1268" name="Text Box 54"/>
              <p:cNvSpPr/>
              <p:nvPr/>
            </p:nvSpPr>
            <p:spPr>
              <a:xfrm>
                <a:off x="3525840" y="365436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Text Box 55"/>
              <p:cNvSpPr/>
              <p:nvPr/>
            </p:nvSpPr>
            <p:spPr>
              <a:xfrm>
                <a:off x="3525840" y="415656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3699000" y="4156200"/>
                <a:ext cx="276480" cy="360"/>
                <a:chOff x="3699000" y="4156200"/>
                <a:chExt cx="276480" cy="360"/>
              </a:xfrm>
            </p:grpSpPr>
            <p:sp>
              <p:nvSpPr>
                <p:cNvPr id="1271" name="Line 56"/>
                <p:cNvSpPr/>
                <p:nvPr/>
              </p:nvSpPr>
              <p:spPr>
                <a:xfrm>
                  <a:off x="3699000" y="4156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 txBox="1"/>
                <p:nvPr/>
              </p:nvSpPr>
              <p:spPr>
                <a:xfrm>
                  <a:off x="3699000" y="4156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3" name="组合 32"/>
            <p:cNvGrpSpPr/>
            <p:nvPr/>
          </p:nvGrpSpPr>
          <p:grpSpPr>
            <a:xfrm>
              <a:off x="4629240" y="3689640"/>
              <a:ext cx="623160" cy="835560"/>
              <a:chOff x="4629240" y="3689640"/>
              <a:chExt cx="623160" cy="835560"/>
            </a:xfrm>
          </p:grpSpPr>
          <p:sp>
            <p:nvSpPr>
              <p:cNvPr id="1274" name="Text Box 54"/>
              <p:cNvSpPr/>
              <p:nvPr/>
            </p:nvSpPr>
            <p:spPr>
              <a:xfrm>
                <a:off x="4629240" y="368964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Text Box 55"/>
              <p:cNvSpPr/>
              <p:nvPr/>
            </p:nvSpPr>
            <p:spPr>
              <a:xfrm>
                <a:off x="4629240" y="415692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4802400" y="4156200"/>
                <a:ext cx="276480" cy="360"/>
                <a:chOff x="4802400" y="4156200"/>
                <a:chExt cx="276480" cy="360"/>
              </a:xfrm>
            </p:grpSpPr>
            <p:sp>
              <p:nvSpPr>
                <p:cNvPr id="1277" name="Line 56"/>
                <p:cNvSpPr/>
                <p:nvPr/>
              </p:nvSpPr>
              <p:spPr>
                <a:xfrm>
                  <a:off x="4802400" y="4156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 txBox="1"/>
                <p:nvPr/>
              </p:nvSpPr>
              <p:spPr>
                <a:xfrm>
                  <a:off x="4802400" y="4156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9" name="文本框 62"/>
            <p:cNvSpPr/>
            <p:nvPr/>
          </p:nvSpPr>
          <p:spPr>
            <a:xfrm>
              <a:off x="4137840" y="3781800"/>
              <a:ext cx="5806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文本框 63"/>
            <p:cNvSpPr/>
            <p:nvPr/>
          </p:nvSpPr>
          <p:spPr>
            <a:xfrm>
              <a:off x="5252400" y="3835800"/>
              <a:ext cx="6098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组合 65"/>
          <p:cNvGrpSpPr/>
          <p:nvPr/>
        </p:nvGrpSpPr>
        <p:grpSpPr>
          <a:xfrm>
            <a:off x="6070680" y="3689280"/>
            <a:ext cx="2336400" cy="835920"/>
            <a:chOff x="6070680" y="3689280"/>
            <a:chExt cx="2336400" cy="835920"/>
          </a:xfrm>
        </p:grpSpPr>
        <p:grpSp>
          <p:nvGrpSpPr>
            <p:cNvPr id="1282" name="组合 32"/>
            <p:cNvGrpSpPr/>
            <p:nvPr/>
          </p:nvGrpSpPr>
          <p:grpSpPr>
            <a:xfrm>
              <a:off x="6070680" y="3689280"/>
              <a:ext cx="623160" cy="835920"/>
              <a:chOff x="6070680" y="3689280"/>
              <a:chExt cx="623160" cy="835920"/>
            </a:xfrm>
          </p:grpSpPr>
          <p:sp>
            <p:nvSpPr>
              <p:cNvPr id="1283" name="Text Box 54"/>
              <p:cNvSpPr/>
              <p:nvPr/>
            </p:nvSpPr>
            <p:spPr>
              <a:xfrm>
                <a:off x="6070680" y="368928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Text Box 55"/>
              <p:cNvSpPr/>
              <p:nvPr/>
            </p:nvSpPr>
            <p:spPr>
              <a:xfrm>
                <a:off x="6070680" y="415692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"/>
              <p:cNvGrpSpPr/>
              <p:nvPr/>
            </p:nvGrpSpPr>
            <p:grpSpPr>
              <a:xfrm>
                <a:off x="6243840" y="4156200"/>
                <a:ext cx="276480" cy="360"/>
                <a:chOff x="6243840" y="4156200"/>
                <a:chExt cx="276480" cy="360"/>
              </a:xfrm>
            </p:grpSpPr>
            <p:sp>
              <p:nvSpPr>
                <p:cNvPr id="1286" name="Line 56"/>
                <p:cNvSpPr/>
                <p:nvPr/>
              </p:nvSpPr>
              <p:spPr>
                <a:xfrm>
                  <a:off x="6243840" y="4156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 txBox="1"/>
                <p:nvPr/>
              </p:nvSpPr>
              <p:spPr>
                <a:xfrm>
                  <a:off x="6243840" y="4156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组合 32"/>
            <p:cNvGrpSpPr/>
            <p:nvPr/>
          </p:nvGrpSpPr>
          <p:grpSpPr>
            <a:xfrm>
              <a:off x="7174080" y="3689280"/>
              <a:ext cx="623160" cy="835920"/>
              <a:chOff x="7174080" y="3689280"/>
              <a:chExt cx="623160" cy="835920"/>
            </a:xfrm>
          </p:grpSpPr>
          <p:sp>
            <p:nvSpPr>
              <p:cNvPr id="1289" name="Text Box 54"/>
              <p:cNvSpPr/>
              <p:nvPr/>
            </p:nvSpPr>
            <p:spPr>
              <a:xfrm>
                <a:off x="7174080" y="368928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Text Box 55"/>
              <p:cNvSpPr/>
              <p:nvPr/>
            </p:nvSpPr>
            <p:spPr>
              <a:xfrm>
                <a:off x="7174080" y="4156920"/>
                <a:ext cx="62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1" name=""/>
              <p:cNvGrpSpPr/>
              <p:nvPr/>
            </p:nvGrpSpPr>
            <p:grpSpPr>
              <a:xfrm>
                <a:off x="7347240" y="4156200"/>
                <a:ext cx="276480" cy="360"/>
                <a:chOff x="7347240" y="4156200"/>
                <a:chExt cx="276480" cy="360"/>
              </a:xfrm>
            </p:grpSpPr>
            <p:sp>
              <p:nvSpPr>
                <p:cNvPr id="1292" name="Line 56"/>
                <p:cNvSpPr/>
                <p:nvPr/>
              </p:nvSpPr>
              <p:spPr>
                <a:xfrm>
                  <a:off x="7347240" y="4156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 txBox="1"/>
                <p:nvPr/>
              </p:nvSpPr>
              <p:spPr>
                <a:xfrm>
                  <a:off x="7347240" y="4156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4" name="文本框 74"/>
            <p:cNvSpPr/>
            <p:nvPr/>
          </p:nvSpPr>
          <p:spPr>
            <a:xfrm>
              <a:off x="6682680" y="3781080"/>
              <a:ext cx="58068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文本框 75"/>
            <p:cNvSpPr/>
            <p:nvPr/>
          </p:nvSpPr>
          <p:spPr>
            <a:xfrm>
              <a:off x="7797240" y="3835080"/>
              <a:ext cx="6098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组合 32"/>
          <p:cNvGrpSpPr/>
          <p:nvPr/>
        </p:nvGrpSpPr>
        <p:grpSpPr>
          <a:xfrm>
            <a:off x="2673360" y="1790640"/>
            <a:ext cx="593640" cy="835200"/>
            <a:chOff x="2673360" y="1790640"/>
            <a:chExt cx="593640" cy="835200"/>
          </a:xfrm>
        </p:grpSpPr>
        <p:sp>
          <p:nvSpPr>
            <p:cNvPr id="1297" name="Text Box 54"/>
            <p:cNvSpPr/>
            <p:nvPr/>
          </p:nvSpPr>
          <p:spPr>
            <a:xfrm>
              <a:off x="2673360" y="179064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55"/>
            <p:cNvSpPr/>
            <p:nvPr/>
          </p:nvSpPr>
          <p:spPr>
            <a:xfrm>
              <a:off x="2673360" y="225756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2837520" y="2256840"/>
              <a:ext cx="263160" cy="360"/>
              <a:chOff x="2837520" y="2256840"/>
              <a:chExt cx="263160" cy="360"/>
            </a:xfrm>
          </p:grpSpPr>
          <p:sp>
            <p:nvSpPr>
              <p:cNvPr id="1300" name="Line 56"/>
              <p:cNvSpPr/>
              <p:nvPr/>
            </p:nvSpPr>
            <p:spPr>
              <a:xfrm>
                <a:off x="2837520" y="225684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 txBox="1"/>
              <p:nvPr/>
            </p:nvSpPr>
            <p:spPr>
              <a:xfrm>
                <a:off x="2837520" y="225684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2" name="组合 32"/>
          <p:cNvGrpSpPr/>
          <p:nvPr/>
        </p:nvGrpSpPr>
        <p:grpSpPr>
          <a:xfrm>
            <a:off x="5261040" y="1892160"/>
            <a:ext cx="593640" cy="835920"/>
            <a:chOff x="5261040" y="1892160"/>
            <a:chExt cx="593640" cy="835920"/>
          </a:xfrm>
        </p:grpSpPr>
        <p:sp>
          <p:nvSpPr>
            <p:cNvPr id="1303" name="Text Box 54"/>
            <p:cNvSpPr/>
            <p:nvPr/>
          </p:nvSpPr>
          <p:spPr>
            <a:xfrm>
              <a:off x="5261040" y="189216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Text Box 55"/>
            <p:cNvSpPr/>
            <p:nvPr/>
          </p:nvSpPr>
          <p:spPr>
            <a:xfrm>
              <a:off x="5261040" y="23598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5425200" y="2359080"/>
              <a:ext cx="263160" cy="360"/>
              <a:chOff x="5425200" y="2359080"/>
              <a:chExt cx="263160" cy="360"/>
            </a:xfrm>
          </p:grpSpPr>
          <p:sp>
            <p:nvSpPr>
              <p:cNvPr id="1306" name="Line 56"/>
              <p:cNvSpPr/>
              <p:nvPr/>
            </p:nvSpPr>
            <p:spPr>
              <a:xfrm>
                <a:off x="5425200" y="235908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5425200" y="235908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8" name="组合 32"/>
          <p:cNvGrpSpPr/>
          <p:nvPr/>
        </p:nvGrpSpPr>
        <p:grpSpPr>
          <a:xfrm>
            <a:off x="7935840" y="1816200"/>
            <a:ext cx="593640" cy="834840"/>
            <a:chOff x="7935840" y="1816200"/>
            <a:chExt cx="593640" cy="834840"/>
          </a:xfrm>
        </p:grpSpPr>
        <p:sp>
          <p:nvSpPr>
            <p:cNvPr id="1309" name="Text Box 54"/>
            <p:cNvSpPr/>
            <p:nvPr/>
          </p:nvSpPr>
          <p:spPr>
            <a:xfrm>
              <a:off x="7935840" y="18162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55"/>
            <p:cNvSpPr/>
            <p:nvPr/>
          </p:nvSpPr>
          <p:spPr>
            <a:xfrm>
              <a:off x="7935840" y="228276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8100000" y="2282400"/>
              <a:ext cx="263160" cy="360"/>
              <a:chOff x="8100000" y="2282400"/>
              <a:chExt cx="263160" cy="360"/>
            </a:xfrm>
          </p:grpSpPr>
          <p:sp>
            <p:nvSpPr>
              <p:cNvPr id="1312" name="Line 56"/>
              <p:cNvSpPr/>
              <p:nvPr/>
            </p:nvSpPr>
            <p:spPr>
              <a:xfrm>
                <a:off x="8100000" y="228240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 txBox="1"/>
              <p:nvPr/>
            </p:nvSpPr>
            <p:spPr>
              <a:xfrm>
                <a:off x="8100000" y="228240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4" name="组合 32"/>
          <p:cNvGrpSpPr/>
          <p:nvPr/>
        </p:nvGrpSpPr>
        <p:grpSpPr>
          <a:xfrm>
            <a:off x="2838600" y="3716280"/>
            <a:ext cx="593640" cy="835560"/>
            <a:chOff x="2838600" y="3716280"/>
            <a:chExt cx="593640" cy="835560"/>
          </a:xfrm>
        </p:grpSpPr>
        <p:sp>
          <p:nvSpPr>
            <p:cNvPr id="1315" name="Text Box 54"/>
            <p:cNvSpPr/>
            <p:nvPr/>
          </p:nvSpPr>
          <p:spPr>
            <a:xfrm>
              <a:off x="2838600" y="371628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Text Box 55"/>
            <p:cNvSpPr/>
            <p:nvPr/>
          </p:nvSpPr>
          <p:spPr>
            <a:xfrm>
              <a:off x="2838600" y="418356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3002760" y="4183560"/>
              <a:ext cx="263160" cy="360"/>
              <a:chOff x="3002760" y="4183560"/>
              <a:chExt cx="263160" cy="360"/>
            </a:xfrm>
          </p:grpSpPr>
          <p:sp>
            <p:nvSpPr>
              <p:cNvPr id="1318" name="Line 56"/>
              <p:cNvSpPr/>
              <p:nvPr/>
            </p:nvSpPr>
            <p:spPr>
              <a:xfrm>
                <a:off x="3002760" y="418356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 txBox="1"/>
              <p:nvPr/>
            </p:nvSpPr>
            <p:spPr>
              <a:xfrm>
                <a:off x="3002760" y="418356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0" name="组合 32"/>
          <p:cNvGrpSpPr/>
          <p:nvPr/>
        </p:nvGrpSpPr>
        <p:grpSpPr>
          <a:xfrm>
            <a:off x="5477040" y="3689280"/>
            <a:ext cx="593640" cy="835920"/>
            <a:chOff x="5477040" y="3689280"/>
            <a:chExt cx="593640" cy="835920"/>
          </a:xfrm>
        </p:grpSpPr>
        <p:sp>
          <p:nvSpPr>
            <p:cNvPr id="1321" name="Text Box 54"/>
            <p:cNvSpPr/>
            <p:nvPr/>
          </p:nvSpPr>
          <p:spPr>
            <a:xfrm>
              <a:off x="5477040" y="368928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Text Box 55"/>
            <p:cNvSpPr/>
            <p:nvPr/>
          </p:nvSpPr>
          <p:spPr>
            <a:xfrm>
              <a:off x="5477040" y="415692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3" name=""/>
            <p:cNvGrpSpPr/>
            <p:nvPr/>
          </p:nvGrpSpPr>
          <p:grpSpPr>
            <a:xfrm>
              <a:off x="5641200" y="4156200"/>
              <a:ext cx="263160" cy="360"/>
              <a:chOff x="5641200" y="4156200"/>
              <a:chExt cx="263160" cy="360"/>
            </a:xfrm>
          </p:grpSpPr>
          <p:sp>
            <p:nvSpPr>
              <p:cNvPr id="1324" name="Line 56"/>
              <p:cNvSpPr/>
              <p:nvPr/>
            </p:nvSpPr>
            <p:spPr>
              <a:xfrm>
                <a:off x="5641200" y="4156200"/>
                <a:ext cx="263160" cy="0"/>
              </a:xfrm>
              <a:prstGeom prst="line">
                <a:avLst/>
              </a:prstGeom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 txBox="1"/>
              <p:nvPr/>
            </p:nvSpPr>
            <p:spPr>
              <a:xfrm>
                <a:off x="5641200" y="4156200"/>
                <a:ext cx="26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6" name="文本框 102"/>
          <p:cNvSpPr/>
          <p:nvPr/>
        </p:nvSpPr>
        <p:spPr>
          <a:xfrm>
            <a:off x="8099280" y="3909960"/>
            <a:ext cx="552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328" name="圆角矩形 1" descr=""/>
            <p:cNvPicPr/>
            <p:nvPr/>
          </p:nvPicPr>
          <p:blipFill>
            <a:blip r:embed="rId1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9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330" name="椭圆 3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1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椭圆 6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3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6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7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文本框 1"/>
          <p:cNvSpPr/>
          <p:nvPr/>
        </p:nvSpPr>
        <p:spPr>
          <a:xfrm>
            <a:off x="339840" y="814320"/>
            <a:ext cx="82850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修路队要修好一条公路，已经修好了这条公路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组合 32"/>
          <p:cNvGrpSpPr/>
          <p:nvPr/>
        </p:nvGrpSpPr>
        <p:grpSpPr>
          <a:xfrm>
            <a:off x="7176960" y="884160"/>
            <a:ext cx="623880" cy="820440"/>
            <a:chOff x="7176960" y="884160"/>
            <a:chExt cx="623880" cy="820440"/>
          </a:xfrm>
        </p:grpSpPr>
        <p:sp>
          <p:nvSpPr>
            <p:cNvPr id="1340" name="Text Box 54"/>
            <p:cNvSpPr/>
            <p:nvPr/>
          </p:nvSpPr>
          <p:spPr>
            <a:xfrm>
              <a:off x="7176960" y="884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Text Box 55"/>
            <p:cNvSpPr/>
            <p:nvPr/>
          </p:nvSpPr>
          <p:spPr>
            <a:xfrm>
              <a:off x="7176960" y="1336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7349760" y="1350720"/>
              <a:ext cx="276840" cy="360"/>
              <a:chOff x="7349760" y="1350720"/>
              <a:chExt cx="276840" cy="360"/>
            </a:xfrm>
          </p:grpSpPr>
          <p:sp>
            <p:nvSpPr>
              <p:cNvPr id="1343" name="Line 56"/>
              <p:cNvSpPr/>
              <p:nvPr/>
            </p:nvSpPr>
            <p:spPr>
              <a:xfrm>
                <a:off x="7349760" y="135072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 txBox="1"/>
              <p:nvPr/>
            </p:nvSpPr>
            <p:spPr>
              <a:xfrm>
                <a:off x="7349760" y="13507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5" name="文本框 3"/>
          <p:cNvSpPr/>
          <p:nvPr/>
        </p:nvSpPr>
        <p:spPr>
          <a:xfrm>
            <a:off x="7875720" y="116856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文本框 4"/>
          <p:cNvSpPr/>
          <p:nvPr/>
        </p:nvSpPr>
        <p:spPr>
          <a:xfrm>
            <a:off x="523800" y="1665360"/>
            <a:ext cx="73519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还剩几分之几没修好？修好的比没修好的多几分之几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组合 17"/>
          <p:cNvGrpSpPr/>
          <p:nvPr/>
        </p:nvGrpSpPr>
        <p:grpSpPr>
          <a:xfrm>
            <a:off x="2444760" y="2421000"/>
            <a:ext cx="3430440" cy="991080"/>
            <a:chOff x="2444760" y="2421000"/>
            <a:chExt cx="3430440" cy="991080"/>
          </a:xfrm>
        </p:grpSpPr>
        <p:sp>
          <p:nvSpPr>
            <p:cNvPr id="1348" name="文本框 102"/>
            <p:cNvSpPr/>
            <p:nvPr/>
          </p:nvSpPr>
          <p:spPr>
            <a:xfrm>
              <a:off x="2444760" y="2651400"/>
              <a:ext cx="55152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文本框 6"/>
            <p:cNvSpPr/>
            <p:nvPr/>
          </p:nvSpPr>
          <p:spPr>
            <a:xfrm>
              <a:off x="2844720" y="2645640"/>
              <a:ext cx="10436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0" name="组合 32"/>
            <p:cNvGrpSpPr/>
            <p:nvPr/>
          </p:nvGrpSpPr>
          <p:grpSpPr>
            <a:xfrm>
              <a:off x="3276360" y="2439360"/>
              <a:ext cx="1036080" cy="972720"/>
              <a:chOff x="3276360" y="2439360"/>
              <a:chExt cx="1036080" cy="972720"/>
            </a:xfrm>
          </p:grpSpPr>
          <p:sp>
            <p:nvSpPr>
              <p:cNvPr id="1351" name="Text Box 54"/>
              <p:cNvSpPr/>
              <p:nvPr/>
            </p:nvSpPr>
            <p:spPr>
              <a:xfrm>
                <a:off x="3276360" y="243936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Text Box 55"/>
              <p:cNvSpPr/>
              <p:nvPr/>
            </p:nvSpPr>
            <p:spPr>
              <a:xfrm>
                <a:off x="3276360" y="28915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3" name=""/>
              <p:cNvGrpSpPr/>
              <p:nvPr/>
            </p:nvGrpSpPr>
            <p:grpSpPr>
              <a:xfrm>
                <a:off x="3563280" y="2906280"/>
                <a:ext cx="459720" cy="360"/>
                <a:chOff x="3563280" y="2906280"/>
                <a:chExt cx="459720" cy="360"/>
              </a:xfrm>
            </p:grpSpPr>
            <p:sp>
              <p:nvSpPr>
                <p:cNvPr id="1354" name="Line 56"/>
                <p:cNvSpPr/>
                <p:nvPr/>
              </p:nvSpPr>
              <p:spPr>
                <a:xfrm>
                  <a:off x="3563280" y="290628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 txBox="1"/>
                <p:nvPr/>
              </p:nvSpPr>
              <p:spPr>
                <a:xfrm>
                  <a:off x="3563280" y="290628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6" name="组合 32"/>
            <p:cNvGrpSpPr/>
            <p:nvPr/>
          </p:nvGrpSpPr>
          <p:grpSpPr>
            <a:xfrm>
              <a:off x="4839120" y="2421000"/>
              <a:ext cx="1036080" cy="972720"/>
              <a:chOff x="4839120" y="2421000"/>
              <a:chExt cx="1036080" cy="972720"/>
            </a:xfrm>
          </p:grpSpPr>
          <p:sp>
            <p:nvSpPr>
              <p:cNvPr id="1357" name="Text Box 54"/>
              <p:cNvSpPr/>
              <p:nvPr/>
            </p:nvSpPr>
            <p:spPr>
              <a:xfrm>
                <a:off x="4839120" y="242100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Text Box 55"/>
              <p:cNvSpPr/>
              <p:nvPr/>
            </p:nvSpPr>
            <p:spPr>
              <a:xfrm>
                <a:off x="4839120" y="287316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9" name=""/>
              <p:cNvGrpSpPr/>
              <p:nvPr/>
            </p:nvGrpSpPr>
            <p:grpSpPr>
              <a:xfrm>
                <a:off x="5126040" y="2887920"/>
                <a:ext cx="459720" cy="360"/>
                <a:chOff x="5126040" y="2887920"/>
                <a:chExt cx="459720" cy="360"/>
              </a:xfrm>
            </p:grpSpPr>
            <p:sp>
              <p:nvSpPr>
                <p:cNvPr id="1360" name="Line 56"/>
                <p:cNvSpPr/>
                <p:nvPr/>
              </p:nvSpPr>
              <p:spPr>
                <a:xfrm>
                  <a:off x="5126040" y="288792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 txBox="1"/>
                <p:nvPr/>
              </p:nvSpPr>
              <p:spPr>
                <a:xfrm>
                  <a:off x="5126040" y="288792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2" name="文本框 16"/>
            <p:cNvSpPr/>
            <p:nvPr/>
          </p:nvSpPr>
          <p:spPr>
            <a:xfrm>
              <a:off x="4312440" y="2720880"/>
              <a:ext cx="9165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组合 40"/>
          <p:cNvGrpSpPr/>
          <p:nvPr/>
        </p:nvGrpSpPr>
        <p:grpSpPr>
          <a:xfrm>
            <a:off x="2049480" y="3652920"/>
            <a:ext cx="3824280" cy="972360"/>
            <a:chOff x="2049480" y="3652920"/>
            <a:chExt cx="3824280" cy="972360"/>
          </a:xfrm>
        </p:grpSpPr>
        <p:sp>
          <p:nvSpPr>
            <p:cNvPr id="1364" name="文本框 20"/>
            <p:cNvSpPr/>
            <p:nvPr/>
          </p:nvSpPr>
          <p:spPr>
            <a:xfrm>
              <a:off x="2843640" y="3859200"/>
              <a:ext cx="1044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5" name="组合 32"/>
            <p:cNvGrpSpPr/>
            <p:nvPr/>
          </p:nvGrpSpPr>
          <p:grpSpPr>
            <a:xfrm>
              <a:off x="3275640" y="3652920"/>
              <a:ext cx="1036080" cy="972360"/>
              <a:chOff x="3275640" y="3652920"/>
              <a:chExt cx="1036080" cy="972360"/>
            </a:xfrm>
          </p:grpSpPr>
          <p:sp>
            <p:nvSpPr>
              <p:cNvPr id="1366" name="Text Box 54"/>
              <p:cNvSpPr/>
              <p:nvPr/>
            </p:nvSpPr>
            <p:spPr>
              <a:xfrm>
                <a:off x="3275640" y="36529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55"/>
              <p:cNvSpPr/>
              <p:nvPr/>
            </p:nvSpPr>
            <p:spPr>
              <a:xfrm>
                <a:off x="3275640" y="41047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8" name=""/>
              <p:cNvGrpSpPr/>
              <p:nvPr/>
            </p:nvGrpSpPr>
            <p:grpSpPr>
              <a:xfrm>
                <a:off x="3562560" y="4119480"/>
                <a:ext cx="459720" cy="360"/>
                <a:chOff x="3562560" y="4119480"/>
                <a:chExt cx="459720" cy="360"/>
              </a:xfrm>
            </p:grpSpPr>
            <p:sp>
              <p:nvSpPr>
                <p:cNvPr id="1369" name="Line 56"/>
                <p:cNvSpPr/>
                <p:nvPr/>
              </p:nvSpPr>
              <p:spPr>
                <a:xfrm>
                  <a:off x="3562560" y="411948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 txBox="1"/>
                <p:nvPr/>
              </p:nvSpPr>
              <p:spPr>
                <a:xfrm>
                  <a:off x="3562560" y="411948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1" name="组合 32"/>
            <p:cNvGrpSpPr/>
            <p:nvPr/>
          </p:nvGrpSpPr>
          <p:grpSpPr>
            <a:xfrm>
              <a:off x="4837320" y="3652920"/>
              <a:ext cx="1036440" cy="972360"/>
              <a:chOff x="4837320" y="3652920"/>
              <a:chExt cx="1036440" cy="972360"/>
            </a:xfrm>
          </p:grpSpPr>
          <p:sp>
            <p:nvSpPr>
              <p:cNvPr id="1372" name="Text Box 54"/>
              <p:cNvSpPr/>
              <p:nvPr/>
            </p:nvSpPr>
            <p:spPr>
              <a:xfrm>
                <a:off x="4837320" y="3652920"/>
                <a:ext cx="103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Text Box 55"/>
              <p:cNvSpPr/>
              <p:nvPr/>
            </p:nvSpPr>
            <p:spPr>
              <a:xfrm>
                <a:off x="4837320" y="4104720"/>
                <a:ext cx="103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"/>
              <p:cNvGrpSpPr/>
              <p:nvPr/>
            </p:nvGrpSpPr>
            <p:grpSpPr>
              <a:xfrm>
                <a:off x="5124240" y="4119480"/>
                <a:ext cx="459720" cy="360"/>
                <a:chOff x="5124240" y="4119480"/>
                <a:chExt cx="459720" cy="360"/>
              </a:xfrm>
            </p:grpSpPr>
            <p:sp>
              <p:nvSpPr>
                <p:cNvPr id="1375" name="Line 56"/>
                <p:cNvSpPr/>
                <p:nvPr/>
              </p:nvSpPr>
              <p:spPr>
                <a:xfrm>
                  <a:off x="5124240" y="411948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 txBox="1"/>
                <p:nvPr/>
              </p:nvSpPr>
              <p:spPr>
                <a:xfrm>
                  <a:off x="5124240" y="411948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7" name="文本框 35"/>
            <p:cNvSpPr/>
            <p:nvPr/>
          </p:nvSpPr>
          <p:spPr>
            <a:xfrm>
              <a:off x="4312080" y="3934080"/>
              <a:ext cx="91692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8" name="组合 32"/>
            <p:cNvGrpSpPr/>
            <p:nvPr/>
          </p:nvGrpSpPr>
          <p:grpSpPr>
            <a:xfrm>
              <a:off x="2049480" y="3652920"/>
              <a:ext cx="1036080" cy="972360"/>
              <a:chOff x="2049480" y="3652920"/>
              <a:chExt cx="1036080" cy="972360"/>
            </a:xfrm>
          </p:grpSpPr>
          <p:sp>
            <p:nvSpPr>
              <p:cNvPr id="1379" name="Text Box 54"/>
              <p:cNvSpPr/>
              <p:nvPr/>
            </p:nvSpPr>
            <p:spPr>
              <a:xfrm>
                <a:off x="2049480" y="36529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55"/>
              <p:cNvSpPr/>
              <p:nvPr/>
            </p:nvSpPr>
            <p:spPr>
              <a:xfrm>
                <a:off x="2049480" y="4104720"/>
                <a:ext cx="103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1" name=""/>
              <p:cNvGrpSpPr/>
              <p:nvPr/>
            </p:nvGrpSpPr>
            <p:grpSpPr>
              <a:xfrm>
                <a:off x="2336400" y="4119480"/>
                <a:ext cx="459720" cy="360"/>
                <a:chOff x="2336400" y="4119480"/>
                <a:chExt cx="459720" cy="360"/>
              </a:xfrm>
            </p:grpSpPr>
            <p:sp>
              <p:nvSpPr>
                <p:cNvPr id="1382" name="Line 56"/>
                <p:cNvSpPr/>
                <p:nvPr/>
              </p:nvSpPr>
              <p:spPr>
                <a:xfrm>
                  <a:off x="2336400" y="4119480"/>
                  <a:ext cx="459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 txBox="1"/>
                <p:nvPr/>
              </p:nvSpPr>
              <p:spPr>
                <a:xfrm>
                  <a:off x="2336400" y="4119480"/>
                  <a:ext cx="45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84" name="组合 10"/>
          <p:cNvGrpSpPr/>
          <p:nvPr/>
        </p:nvGrpSpPr>
        <p:grpSpPr>
          <a:xfrm>
            <a:off x="892080" y="4622760"/>
            <a:ext cx="7918560" cy="1048320"/>
            <a:chOff x="892080" y="4622760"/>
            <a:chExt cx="7918560" cy="1048320"/>
          </a:xfrm>
        </p:grpSpPr>
        <p:sp>
          <p:nvSpPr>
            <p:cNvPr id="1385" name="文本框 41"/>
            <p:cNvSpPr/>
            <p:nvPr/>
          </p:nvSpPr>
          <p:spPr>
            <a:xfrm>
              <a:off x="892080" y="4813200"/>
              <a:ext cx="79185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答：还剩   没修好，修好的比没修好的多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6" name="组合 32"/>
            <p:cNvGrpSpPr/>
            <p:nvPr/>
          </p:nvGrpSpPr>
          <p:grpSpPr>
            <a:xfrm>
              <a:off x="2163240" y="4622760"/>
              <a:ext cx="1013760" cy="962640"/>
              <a:chOff x="2163240" y="4622760"/>
              <a:chExt cx="1013760" cy="962640"/>
            </a:xfrm>
          </p:grpSpPr>
          <p:sp>
            <p:nvSpPr>
              <p:cNvPr id="1387" name="Text Box 54"/>
              <p:cNvSpPr/>
              <p:nvPr/>
            </p:nvSpPr>
            <p:spPr>
              <a:xfrm>
                <a:off x="2163240" y="4622760"/>
                <a:ext cx="101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Text Box 55"/>
              <p:cNvSpPr/>
              <p:nvPr/>
            </p:nvSpPr>
            <p:spPr>
              <a:xfrm>
                <a:off x="2163240" y="5064840"/>
                <a:ext cx="101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9" name=""/>
              <p:cNvGrpSpPr/>
              <p:nvPr/>
            </p:nvGrpSpPr>
            <p:grpSpPr>
              <a:xfrm>
                <a:off x="2444040" y="5079240"/>
                <a:ext cx="449640" cy="360"/>
                <a:chOff x="2444040" y="5079240"/>
                <a:chExt cx="449640" cy="360"/>
              </a:xfrm>
            </p:grpSpPr>
            <p:sp>
              <p:nvSpPr>
                <p:cNvPr id="1390" name="Line 56"/>
                <p:cNvSpPr/>
                <p:nvPr/>
              </p:nvSpPr>
              <p:spPr>
                <a:xfrm>
                  <a:off x="2444040" y="5079240"/>
                  <a:ext cx="449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 txBox="1"/>
                <p:nvPr/>
              </p:nvSpPr>
              <p:spPr>
                <a:xfrm>
                  <a:off x="2444040" y="5079240"/>
                  <a:ext cx="449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2" name="组合 32"/>
            <p:cNvGrpSpPr/>
            <p:nvPr/>
          </p:nvGrpSpPr>
          <p:grpSpPr>
            <a:xfrm>
              <a:off x="7421040" y="4698720"/>
              <a:ext cx="1014120" cy="972360"/>
              <a:chOff x="7421040" y="4698720"/>
              <a:chExt cx="1014120" cy="972360"/>
            </a:xfrm>
          </p:grpSpPr>
          <p:sp>
            <p:nvSpPr>
              <p:cNvPr id="1393" name="Text Box 54"/>
              <p:cNvSpPr/>
              <p:nvPr/>
            </p:nvSpPr>
            <p:spPr>
              <a:xfrm>
                <a:off x="7421040" y="4698720"/>
                <a:ext cx="101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Text Box 55"/>
              <p:cNvSpPr/>
              <p:nvPr/>
            </p:nvSpPr>
            <p:spPr>
              <a:xfrm>
                <a:off x="7421040" y="5150520"/>
                <a:ext cx="1014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"/>
              <p:cNvGrpSpPr/>
              <p:nvPr/>
            </p:nvGrpSpPr>
            <p:grpSpPr>
              <a:xfrm>
                <a:off x="7701840" y="5165280"/>
                <a:ext cx="450000" cy="360"/>
                <a:chOff x="7701840" y="5165280"/>
                <a:chExt cx="450000" cy="360"/>
              </a:xfrm>
            </p:grpSpPr>
            <p:sp>
              <p:nvSpPr>
                <p:cNvPr id="1396" name="Line 56"/>
                <p:cNvSpPr/>
                <p:nvPr/>
              </p:nvSpPr>
              <p:spPr>
                <a:xfrm>
                  <a:off x="7701840" y="5165280"/>
                  <a:ext cx="450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 txBox="1"/>
                <p:nvPr/>
              </p:nvSpPr>
              <p:spPr>
                <a:xfrm>
                  <a:off x="7701840" y="5165280"/>
                  <a:ext cx="45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8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399" name="圆角矩形 1" descr=""/>
            <p:cNvPicPr/>
            <p:nvPr/>
          </p:nvPicPr>
          <p:blipFill>
            <a:blip r:embed="rId1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0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401" name="椭圆 3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2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椭圆 6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4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5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6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7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8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文本框 1"/>
          <p:cNvSpPr/>
          <p:nvPr/>
        </p:nvSpPr>
        <p:spPr>
          <a:xfrm>
            <a:off x="387360" y="604800"/>
            <a:ext cx="8128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（   ）里填上合适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组合 32"/>
          <p:cNvGrpSpPr/>
          <p:nvPr/>
        </p:nvGrpSpPr>
        <p:grpSpPr>
          <a:xfrm>
            <a:off x="963720" y="4533840"/>
            <a:ext cx="957240" cy="831600"/>
            <a:chOff x="963720" y="4533840"/>
            <a:chExt cx="957240" cy="831600"/>
          </a:xfrm>
        </p:grpSpPr>
        <p:sp>
          <p:nvSpPr>
            <p:cNvPr id="1411" name="Text Box 54"/>
            <p:cNvSpPr/>
            <p:nvPr/>
          </p:nvSpPr>
          <p:spPr>
            <a:xfrm>
              <a:off x="963720" y="45338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Text Box 55"/>
            <p:cNvSpPr/>
            <p:nvPr/>
          </p:nvSpPr>
          <p:spPr>
            <a:xfrm>
              <a:off x="963720" y="499716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1228680" y="5011920"/>
              <a:ext cx="424800" cy="360"/>
              <a:chOff x="1228680" y="5011920"/>
              <a:chExt cx="424800" cy="360"/>
            </a:xfrm>
          </p:grpSpPr>
          <p:sp>
            <p:nvSpPr>
              <p:cNvPr id="1414" name="Line 56"/>
              <p:cNvSpPr/>
              <p:nvPr/>
            </p:nvSpPr>
            <p:spPr>
              <a:xfrm>
                <a:off x="1228680" y="501192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 txBox="1"/>
              <p:nvPr/>
            </p:nvSpPr>
            <p:spPr>
              <a:xfrm>
                <a:off x="1228680" y="501192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6" name="组合 32"/>
          <p:cNvGrpSpPr/>
          <p:nvPr/>
        </p:nvGrpSpPr>
        <p:grpSpPr>
          <a:xfrm>
            <a:off x="4335480" y="1906560"/>
            <a:ext cx="955800" cy="832320"/>
            <a:chOff x="4335480" y="1906560"/>
            <a:chExt cx="955800" cy="832320"/>
          </a:xfrm>
        </p:grpSpPr>
        <p:sp>
          <p:nvSpPr>
            <p:cNvPr id="1417" name="Text Box 54"/>
            <p:cNvSpPr/>
            <p:nvPr/>
          </p:nvSpPr>
          <p:spPr>
            <a:xfrm>
              <a:off x="4335480" y="190656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55"/>
            <p:cNvSpPr/>
            <p:nvPr/>
          </p:nvSpPr>
          <p:spPr>
            <a:xfrm>
              <a:off x="4335480" y="237060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4600080" y="2385360"/>
              <a:ext cx="424080" cy="360"/>
              <a:chOff x="4600080" y="2385360"/>
              <a:chExt cx="424080" cy="360"/>
            </a:xfrm>
          </p:grpSpPr>
          <p:sp>
            <p:nvSpPr>
              <p:cNvPr id="1420" name="Line 56"/>
              <p:cNvSpPr/>
              <p:nvPr/>
            </p:nvSpPr>
            <p:spPr>
              <a:xfrm>
                <a:off x="4600080" y="2385360"/>
                <a:ext cx="424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 txBox="1"/>
              <p:nvPr/>
            </p:nvSpPr>
            <p:spPr>
              <a:xfrm>
                <a:off x="4600080" y="2385360"/>
                <a:ext cx="424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2" name="组合 32"/>
          <p:cNvGrpSpPr/>
          <p:nvPr/>
        </p:nvGrpSpPr>
        <p:grpSpPr>
          <a:xfrm>
            <a:off x="2117880" y="1906560"/>
            <a:ext cx="955440" cy="832320"/>
            <a:chOff x="2117880" y="1906560"/>
            <a:chExt cx="955440" cy="832320"/>
          </a:xfrm>
        </p:grpSpPr>
        <p:sp>
          <p:nvSpPr>
            <p:cNvPr id="1423" name="Text Box 54"/>
            <p:cNvSpPr/>
            <p:nvPr/>
          </p:nvSpPr>
          <p:spPr>
            <a:xfrm>
              <a:off x="2117880" y="190656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Text Box 55"/>
            <p:cNvSpPr/>
            <p:nvPr/>
          </p:nvSpPr>
          <p:spPr>
            <a:xfrm>
              <a:off x="2117880" y="237060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2382480" y="2385360"/>
              <a:ext cx="423720" cy="360"/>
              <a:chOff x="2382480" y="2385360"/>
              <a:chExt cx="423720" cy="360"/>
            </a:xfrm>
          </p:grpSpPr>
          <p:sp>
            <p:nvSpPr>
              <p:cNvPr id="1426" name="Line 56"/>
              <p:cNvSpPr/>
              <p:nvPr/>
            </p:nvSpPr>
            <p:spPr>
              <a:xfrm>
                <a:off x="2382480" y="2385360"/>
                <a:ext cx="42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 txBox="1"/>
              <p:nvPr/>
            </p:nvSpPr>
            <p:spPr>
              <a:xfrm>
                <a:off x="2382480" y="2385360"/>
                <a:ext cx="423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8" name="组合 32"/>
          <p:cNvGrpSpPr/>
          <p:nvPr/>
        </p:nvGrpSpPr>
        <p:grpSpPr>
          <a:xfrm>
            <a:off x="3267000" y="1913040"/>
            <a:ext cx="957240" cy="832320"/>
            <a:chOff x="3267000" y="1913040"/>
            <a:chExt cx="957240" cy="832320"/>
          </a:xfrm>
        </p:grpSpPr>
        <p:sp>
          <p:nvSpPr>
            <p:cNvPr id="1429" name="Text Box 54"/>
            <p:cNvSpPr/>
            <p:nvPr/>
          </p:nvSpPr>
          <p:spPr>
            <a:xfrm>
              <a:off x="3267000" y="19130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55"/>
            <p:cNvSpPr/>
            <p:nvPr/>
          </p:nvSpPr>
          <p:spPr>
            <a:xfrm>
              <a:off x="3267000" y="237708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"/>
            <p:cNvGrpSpPr/>
            <p:nvPr/>
          </p:nvGrpSpPr>
          <p:grpSpPr>
            <a:xfrm>
              <a:off x="3531960" y="2391840"/>
              <a:ext cx="424800" cy="360"/>
              <a:chOff x="3531960" y="2391840"/>
              <a:chExt cx="424800" cy="360"/>
            </a:xfrm>
          </p:grpSpPr>
          <p:sp>
            <p:nvSpPr>
              <p:cNvPr id="1432" name="Line 56"/>
              <p:cNvSpPr/>
              <p:nvPr/>
            </p:nvSpPr>
            <p:spPr>
              <a:xfrm>
                <a:off x="3531960" y="239184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 txBox="1"/>
              <p:nvPr/>
            </p:nvSpPr>
            <p:spPr>
              <a:xfrm>
                <a:off x="3531960" y="239184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4" name="文本框 17"/>
          <p:cNvSpPr/>
          <p:nvPr/>
        </p:nvSpPr>
        <p:spPr>
          <a:xfrm>
            <a:off x="5024520" y="2033640"/>
            <a:ext cx="666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组合 32"/>
          <p:cNvGrpSpPr/>
          <p:nvPr/>
        </p:nvGrpSpPr>
        <p:grpSpPr>
          <a:xfrm>
            <a:off x="5291280" y="1924200"/>
            <a:ext cx="623880" cy="821160"/>
            <a:chOff x="5291280" y="1924200"/>
            <a:chExt cx="623880" cy="821160"/>
          </a:xfrm>
        </p:grpSpPr>
        <p:sp>
          <p:nvSpPr>
            <p:cNvPr id="1436" name="Text Box 54"/>
            <p:cNvSpPr/>
            <p:nvPr/>
          </p:nvSpPr>
          <p:spPr>
            <a:xfrm>
              <a:off x="5291280" y="1924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55"/>
            <p:cNvSpPr/>
            <p:nvPr/>
          </p:nvSpPr>
          <p:spPr>
            <a:xfrm>
              <a:off x="5291280" y="23770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5464080" y="2391840"/>
              <a:ext cx="276840" cy="360"/>
              <a:chOff x="5464080" y="2391840"/>
              <a:chExt cx="276840" cy="360"/>
            </a:xfrm>
          </p:grpSpPr>
          <p:sp>
            <p:nvSpPr>
              <p:cNvPr id="1439" name="Line 56"/>
              <p:cNvSpPr/>
              <p:nvPr/>
            </p:nvSpPr>
            <p:spPr>
              <a:xfrm>
                <a:off x="5464080" y="239184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 txBox="1"/>
              <p:nvPr/>
            </p:nvSpPr>
            <p:spPr>
              <a:xfrm>
                <a:off x="5464080" y="23918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1" name="文本框 22"/>
          <p:cNvSpPr/>
          <p:nvPr/>
        </p:nvSpPr>
        <p:spPr>
          <a:xfrm>
            <a:off x="1655640" y="1906560"/>
            <a:ext cx="46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文本框 27"/>
          <p:cNvSpPr/>
          <p:nvPr/>
        </p:nvSpPr>
        <p:spPr>
          <a:xfrm>
            <a:off x="2906640" y="1906560"/>
            <a:ext cx="46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文本框 28"/>
          <p:cNvSpPr/>
          <p:nvPr/>
        </p:nvSpPr>
        <p:spPr>
          <a:xfrm>
            <a:off x="4102200" y="1913040"/>
            <a:ext cx="46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组合 32"/>
          <p:cNvGrpSpPr/>
          <p:nvPr/>
        </p:nvGrpSpPr>
        <p:grpSpPr>
          <a:xfrm>
            <a:off x="928800" y="3218040"/>
            <a:ext cx="957240" cy="831240"/>
            <a:chOff x="928800" y="3218040"/>
            <a:chExt cx="957240" cy="831240"/>
          </a:xfrm>
        </p:grpSpPr>
        <p:sp>
          <p:nvSpPr>
            <p:cNvPr id="1445" name="Text Box 54"/>
            <p:cNvSpPr/>
            <p:nvPr/>
          </p:nvSpPr>
          <p:spPr>
            <a:xfrm>
              <a:off x="928800" y="32180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Text Box 55"/>
            <p:cNvSpPr/>
            <p:nvPr/>
          </p:nvSpPr>
          <p:spPr>
            <a:xfrm>
              <a:off x="928800" y="368100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1193760" y="3695760"/>
              <a:ext cx="424800" cy="360"/>
              <a:chOff x="1193760" y="3695760"/>
              <a:chExt cx="424800" cy="360"/>
            </a:xfrm>
          </p:grpSpPr>
          <p:sp>
            <p:nvSpPr>
              <p:cNvPr id="1448" name="Line 56"/>
              <p:cNvSpPr/>
              <p:nvPr/>
            </p:nvSpPr>
            <p:spPr>
              <a:xfrm>
                <a:off x="1193760" y="369576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 txBox="1"/>
              <p:nvPr/>
            </p:nvSpPr>
            <p:spPr>
              <a:xfrm>
                <a:off x="1193760" y="369576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0" name="组合 32"/>
          <p:cNvGrpSpPr/>
          <p:nvPr/>
        </p:nvGrpSpPr>
        <p:grpSpPr>
          <a:xfrm>
            <a:off x="2116080" y="3218040"/>
            <a:ext cx="957240" cy="831240"/>
            <a:chOff x="2116080" y="3218040"/>
            <a:chExt cx="957240" cy="831240"/>
          </a:xfrm>
        </p:grpSpPr>
        <p:sp>
          <p:nvSpPr>
            <p:cNvPr id="1451" name="Text Box 54"/>
            <p:cNvSpPr/>
            <p:nvPr/>
          </p:nvSpPr>
          <p:spPr>
            <a:xfrm>
              <a:off x="2116080" y="32180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Text Box 55"/>
            <p:cNvSpPr/>
            <p:nvPr/>
          </p:nvSpPr>
          <p:spPr>
            <a:xfrm>
              <a:off x="2116080" y="368100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"/>
            <p:cNvGrpSpPr/>
            <p:nvPr/>
          </p:nvGrpSpPr>
          <p:grpSpPr>
            <a:xfrm>
              <a:off x="2381040" y="3695760"/>
              <a:ext cx="424800" cy="360"/>
              <a:chOff x="2381040" y="3695760"/>
              <a:chExt cx="424800" cy="360"/>
            </a:xfrm>
          </p:grpSpPr>
          <p:sp>
            <p:nvSpPr>
              <p:cNvPr id="1454" name="Line 56"/>
              <p:cNvSpPr/>
              <p:nvPr/>
            </p:nvSpPr>
            <p:spPr>
              <a:xfrm>
                <a:off x="2381040" y="369576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 txBox="1"/>
              <p:nvPr/>
            </p:nvSpPr>
            <p:spPr>
              <a:xfrm>
                <a:off x="2381040" y="369576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6" name="组合 32"/>
          <p:cNvGrpSpPr/>
          <p:nvPr/>
        </p:nvGrpSpPr>
        <p:grpSpPr>
          <a:xfrm>
            <a:off x="3146400" y="3218040"/>
            <a:ext cx="955800" cy="831240"/>
            <a:chOff x="3146400" y="3218040"/>
            <a:chExt cx="955800" cy="831240"/>
          </a:xfrm>
        </p:grpSpPr>
        <p:sp>
          <p:nvSpPr>
            <p:cNvPr id="1457" name="Text Box 54"/>
            <p:cNvSpPr/>
            <p:nvPr/>
          </p:nvSpPr>
          <p:spPr>
            <a:xfrm>
              <a:off x="3146400" y="321804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Text Box 55"/>
            <p:cNvSpPr/>
            <p:nvPr/>
          </p:nvSpPr>
          <p:spPr>
            <a:xfrm>
              <a:off x="3146400" y="3681000"/>
              <a:ext cx="95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9" name=""/>
            <p:cNvGrpSpPr/>
            <p:nvPr/>
          </p:nvGrpSpPr>
          <p:grpSpPr>
            <a:xfrm>
              <a:off x="3411000" y="3695760"/>
              <a:ext cx="424080" cy="360"/>
              <a:chOff x="3411000" y="3695760"/>
              <a:chExt cx="424080" cy="360"/>
            </a:xfrm>
          </p:grpSpPr>
          <p:sp>
            <p:nvSpPr>
              <p:cNvPr id="1460" name="Line 56"/>
              <p:cNvSpPr/>
              <p:nvPr/>
            </p:nvSpPr>
            <p:spPr>
              <a:xfrm>
                <a:off x="3411000" y="3695760"/>
                <a:ext cx="424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 txBox="1"/>
              <p:nvPr/>
            </p:nvSpPr>
            <p:spPr>
              <a:xfrm>
                <a:off x="3411000" y="3695760"/>
                <a:ext cx="424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2" name="组合 32"/>
          <p:cNvGrpSpPr/>
          <p:nvPr/>
        </p:nvGrpSpPr>
        <p:grpSpPr>
          <a:xfrm>
            <a:off x="963720" y="1819440"/>
            <a:ext cx="957240" cy="831240"/>
            <a:chOff x="963720" y="1819440"/>
            <a:chExt cx="957240" cy="831240"/>
          </a:xfrm>
        </p:grpSpPr>
        <p:sp>
          <p:nvSpPr>
            <p:cNvPr id="1463" name="Text Box 54"/>
            <p:cNvSpPr/>
            <p:nvPr/>
          </p:nvSpPr>
          <p:spPr>
            <a:xfrm>
              <a:off x="963720" y="181944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55"/>
            <p:cNvSpPr/>
            <p:nvPr/>
          </p:nvSpPr>
          <p:spPr>
            <a:xfrm>
              <a:off x="963720" y="2282400"/>
              <a:ext cx="9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5" name=""/>
            <p:cNvGrpSpPr/>
            <p:nvPr/>
          </p:nvGrpSpPr>
          <p:grpSpPr>
            <a:xfrm>
              <a:off x="1228680" y="2297160"/>
              <a:ext cx="424800" cy="360"/>
              <a:chOff x="1228680" y="2297160"/>
              <a:chExt cx="424800" cy="360"/>
            </a:xfrm>
          </p:grpSpPr>
          <p:sp>
            <p:nvSpPr>
              <p:cNvPr id="1466" name="Line 56"/>
              <p:cNvSpPr/>
              <p:nvPr/>
            </p:nvSpPr>
            <p:spPr>
              <a:xfrm>
                <a:off x="1228680" y="2297160"/>
                <a:ext cx="42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 txBox="1"/>
              <p:nvPr/>
            </p:nvSpPr>
            <p:spPr>
              <a:xfrm>
                <a:off x="1228680" y="2297160"/>
                <a:ext cx="42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8" name="文本框 52"/>
          <p:cNvSpPr/>
          <p:nvPr/>
        </p:nvSpPr>
        <p:spPr>
          <a:xfrm>
            <a:off x="2906640" y="3305160"/>
            <a:ext cx="46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文本框 53"/>
          <p:cNvSpPr/>
          <p:nvPr/>
        </p:nvSpPr>
        <p:spPr>
          <a:xfrm>
            <a:off x="3956040" y="3305160"/>
            <a:ext cx="668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组合 32"/>
          <p:cNvGrpSpPr/>
          <p:nvPr/>
        </p:nvGrpSpPr>
        <p:grpSpPr>
          <a:xfrm>
            <a:off x="4260960" y="3191040"/>
            <a:ext cx="622080" cy="820440"/>
            <a:chOff x="4260960" y="3191040"/>
            <a:chExt cx="622080" cy="820440"/>
          </a:xfrm>
        </p:grpSpPr>
        <p:sp>
          <p:nvSpPr>
            <p:cNvPr id="1471" name="Text Box 54"/>
            <p:cNvSpPr/>
            <p:nvPr/>
          </p:nvSpPr>
          <p:spPr>
            <a:xfrm>
              <a:off x="4260960" y="3191040"/>
              <a:ext cx="62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55"/>
            <p:cNvSpPr/>
            <p:nvPr/>
          </p:nvSpPr>
          <p:spPr>
            <a:xfrm>
              <a:off x="4260960" y="3643200"/>
              <a:ext cx="62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4433040" y="3657600"/>
              <a:ext cx="276120" cy="360"/>
              <a:chOff x="4433040" y="3657600"/>
              <a:chExt cx="276120" cy="360"/>
            </a:xfrm>
          </p:grpSpPr>
          <p:sp>
            <p:nvSpPr>
              <p:cNvPr id="1474" name="Line 56"/>
              <p:cNvSpPr/>
              <p:nvPr/>
            </p:nvSpPr>
            <p:spPr>
              <a:xfrm>
                <a:off x="4433040" y="3657600"/>
                <a:ext cx="276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 txBox="1"/>
              <p:nvPr/>
            </p:nvSpPr>
            <p:spPr>
              <a:xfrm>
                <a:off x="4433040" y="3657600"/>
                <a:ext cx="276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6" name="组合 32"/>
          <p:cNvGrpSpPr/>
          <p:nvPr/>
        </p:nvGrpSpPr>
        <p:grpSpPr>
          <a:xfrm>
            <a:off x="2381400" y="4533840"/>
            <a:ext cx="955440" cy="831600"/>
            <a:chOff x="2381400" y="4533840"/>
            <a:chExt cx="955440" cy="831600"/>
          </a:xfrm>
        </p:grpSpPr>
        <p:sp>
          <p:nvSpPr>
            <p:cNvPr id="1477" name="Text Box 54"/>
            <p:cNvSpPr/>
            <p:nvPr/>
          </p:nvSpPr>
          <p:spPr>
            <a:xfrm>
              <a:off x="2381400" y="453384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Text Box 55"/>
            <p:cNvSpPr/>
            <p:nvPr/>
          </p:nvSpPr>
          <p:spPr>
            <a:xfrm>
              <a:off x="2381400" y="4997160"/>
              <a:ext cx="9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2646000" y="5011920"/>
              <a:ext cx="423720" cy="360"/>
              <a:chOff x="2646000" y="5011920"/>
              <a:chExt cx="423720" cy="360"/>
            </a:xfrm>
          </p:grpSpPr>
          <p:sp>
            <p:nvSpPr>
              <p:cNvPr id="1480" name="Line 56"/>
              <p:cNvSpPr/>
              <p:nvPr/>
            </p:nvSpPr>
            <p:spPr>
              <a:xfrm>
                <a:off x="2646000" y="5011920"/>
                <a:ext cx="42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 txBox="1"/>
              <p:nvPr/>
            </p:nvSpPr>
            <p:spPr>
              <a:xfrm>
                <a:off x="2646000" y="5011920"/>
                <a:ext cx="423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2" name="文本框 63"/>
          <p:cNvSpPr/>
          <p:nvPr/>
        </p:nvSpPr>
        <p:spPr>
          <a:xfrm>
            <a:off x="1920960" y="4619520"/>
            <a:ext cx="46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文本框 64"/>
          <p:cNvSpPr/>
          <p:nvPr/>
        </p:nvSpPr>
        <p:spPr>
          <a:xfrm>
            <a:off x="1839960" y="3336840"/>
            <a:ext cx="46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文本框 65"/>
          <p:cNvSpPr/>
          <p:nvPr/>
        </p:nvSpPr>
        <p:spPr>
          <a:xfrm>
            <a:off x="3336840" y="4718160"/>
            <a:ext cx="668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组合 32"/>
          <p:cNvGrpSpPr/>
          <p:nvPr/>
        </p:nvGrpSpPr>
        <p:grpSpPr>
          <a:xfrm>
            <a:off x="3711600" y="4533840"/>
            <a:ext cx="623880" cy="820440"/>
            <a:chOff x="3711600" y="4533840"/>
            <a:chExt cx="623880" cy="820440"/>
          </a:xfrm>
        </p:grpSpPr>
        <p:sp>
          <p:nvSpPr>
            <p:cNvPr id="1486" name="Text Box 54"/>
            <p:cNvSpPr/>
            <p:nvPr/>
          </p:nvSpPr>
          <p:spPr>
            <a:xfrm>
              <a:off x="3711600" y="4533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Text Box 55"/>
            <p:cNvSpPr/>
            <p:nvPr/>
          </p:nvSpPr>
          <p:spPr>
            <a:xfrm>
              <a:off x="3711600" y="49860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8" name=""/>
            <p:cNvGrpSpPr/>
            <p:nvPr/>
          </p:nvGrpSpPr>
          <p:grpSpPr>
            <a:xfrm>
              <a:off x="3884400" y="5000400"/>
              <a:ext cx="276840" cy="360"/>
              <a:chOff x="3884400" y="5000400"/>
              <a:chExt cx="276840" cy="360"/>
            </a:xfrm>
          </p:grpSpPr>
          <p:sp>
            <p:nvSpPr>
              <p:cNvPr id="1489" name="Line 56"/>
              <p:cNvSpPr/>
              <p:nvPr/>
            </p:nvSpPr>
            <p:spPr>
              <a:xfrm>
                <a:off x="3884400" y="500040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3884400" y="50004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1" name="文本框 70"/>
          <p:cNvSpPr/>
          <p:nvPr/>
        </p:nvSpPr>
        <p:spPr>
          <a:xfrm>
            <a:off x="1241280" y="1727280"/>
            <a:ext cx="398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文本框 75"/>
          <p:cNvSpPr/>
          <p:nvPr/>
        </p:nvSpPr>
        <p:spPr>
          <a:xfrm>
            <a:off x="2406600" y="1752480"/>
            <a:ext cx="399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文本框 76"/>
          <p:cNvSpPr/>
          <p:nvPr/>
        </p:nvSpPr>
        <p:spPr>
          <a:xfrm>
            <a:off x="3532320" y="176220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文本框 77"/>
          <p:cNvSpPr/>
          <p:nvPr/>
        </p:nvSpPr>
        <p:spPr>
          <a:xfrm>
            <a:off x="4611600" y="173052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文本框 78"/>
          <p:cNvSpPr/>
          <p:nvPr/>
        </p:nvSpPr>
        <p:spPr>
          <a:xfrm>
            <a:off x="1244520" y="303228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文本框 79"/>
          <p:cNvSpPr/>
          <p:nvPr/>
        </p:nvSpPr>
        <p:spPr>
          <a:xfrm>
            <a:off x="3425760" y="3065400"/>
            <a:ext cx="399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文本框 80"/>
          <p:cNvSpPr/>
          <p:nvPr/>
        </p:nvSpPr>
        <p:spPr>
          <a:xfrm>
            <a:off x="2406600" y="306396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文本框 81"/>
          <p:cNvSpPr/>
          <p:nvPr/>
        </p:nvSpPr>
        <p:spPr>
          <a:xfrm>
            <a:off x="1255680" y="4416480"/>
            <a:ext cx="399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文本框 82"/>
          <p:cNvSpPr/>
          <p:nvPr/>
        </p:nvSpPr>
        <p:spPr>
          <a:xfrm>
            <a:off x="2674800" y="4416480"/>
            <a:ext cx="3985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组合 2"/>
          <p:cNvGrpSpPr/>
          <p:nvPr/>
        </p:nvGrpSpPr>
        <p:grpSpPr>
          <a:xfrm>
            <a:off x="-50760" y="179280"/>
            <a:ext cx="3232080" cy="525600"/>
            <a:chOff x="-50760" y="179280"/>
            <a:chExt cx="3232080" cy="525600"/>
          </a:xfrm>
        </p:grpSpPr>
        <p:pic>
          <p:nvPicPr>
            <p:cNvPr id="150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87480" y="179280"/>
              <a:ext cx="30938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2" name="组合 4"/>
            <p:cNvGrpSpPr/>
            <p:nvPr/>
          </p:nvGrpSpPr>
          <p:grpSpPr>
            <a:xfrm>
              <a:off x="-50760" y="223560"/>
              <a:ext cx="429840" cy="271800"/>
              <a:chOff x="-50760" y="223560"/>
              <a:chExt cx="429840" cy="271800"/>
            </a:xfrm>
          </p:grpSpPr>
          <p:sp>
            <p:nvSpPr>
              <p:cNvPr id="1503" name="椭圆 6"/>
              <p:cNvSpPr/>
              <p:nvPr/>
            </p:nvSpPr>
            <p:spPr>
              <a:xfrm rot="16200000">
                <a:off x="192240" y="386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4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400" y="3499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5" name="椭圆 9"/>
              <p:cNvSpPr/>
              <p:nvPr/>
            </p:nvSpPr>
            <p:spPr>
              <a:xfrm rot="16200000">
                <a:off x="192240" y="2602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06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400" y="237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7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661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8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380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9" name="圆角矩形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51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0" name="圆角矩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2235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11" name="文本框 2"/>
          <p:cNvSpPr/>
          <p:nvPr/>
        </p:nvSpPr>
        <p:spPr>
          <a:xfrm>
            <a:off x="5024520" y="4533840"/>
            <a:ext cx="2878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案不唯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24:09Z</dcterms:created>
  <dc:creator/>
  <dc:description/>
  <dc:language>en-US</dc:language>
  <cp:lastModifiedBy>万润仪器贸易公司</cp:lastModifiedBy>
  <dcterms:modified xsi:type="dcterms:W3CDTF">2020-08-21T01:32:3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